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85F-348F-4C45-B92A-9A17BB31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E0D-FB74-460D-8E34-1AD2AE23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DCA-32A1-4EEC-82CE-6C758AFA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844-B960-4BEB-9503-B69AB7B3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A4F-322C-483F-96EB-62B79118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A08-95BE-484F-9F05-22E11FE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88D-6B18-4364-B034-F7087DE0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660-BCF7-458A-88AC-32470F52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7BB-E8BF-4067-AFB8-FFF39DDD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ED5-6266-4FCF-9092-87AC7D6F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334-2471-4150-9726-D1719D4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2CB-FE30-4679-8D57-12E3E0A8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7162-394D-4BA4-81D1-377041426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8190000" cy="239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62160" y="141300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132680" cy="4762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23240" y="9810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forming the DD to Prolo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3341520"/>
            <a:ext cx="7354800" cy="2895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3240" y="9810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forming the DD to Prolo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7059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3240" y="9810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forming the DD to Prolo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145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4879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1600" y="126828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CLIMA 2006 Contes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7200" y="2349360"/>
            <a:ext cx="70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a test about different Engineering-Implementation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67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6520" y="1916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6520" y="2852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72240" y="3357720"/>
            <a:ext cx="17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1440" y="4941720"/>
            <a:ext cx="62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et of games where TWO agent teams are competing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rtificial) gold nuggets col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3440" y="450864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The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777080" cy="437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4898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9128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2160" y="907920"/>
            <a:ext cx="3026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Contest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MA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6266160" cy="1515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1930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880" y="155736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TIVA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5960" y="220500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st our learning about Tro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67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38440" y="2781360"/>
            <a:ext cx="67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ut in practice an Agent-Oriented software developed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3500280"/>
            <a:ext cx="14414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365720"/>
            <a:ext cx="55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articipate in the 1rst Computational Logic for Multi-Agent System Contest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2160" y="907920"/>
            <a:ext cx="3026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Contest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MA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3434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360" y="1268280"/>
            <a:ext cx="4281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approach seems to wor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3228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0880" y="155736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TIVAT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8320" y="2205000"/>
            <a:ext cx="47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st our approach in a virtu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67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36640" y="278136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ut in practice some knowledge reuse at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500280"/>
            <a:ext cx="14414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4365720"/>
            <a:ext cx="55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articipate in the 2nd Computational Logic for Multi-Agent System Contest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600" y="126828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CLIMA 2005 Contes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7200" y="2349360"/>
            <a:ext cx="71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ackle the gap among AOSE methodologies and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67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6520" y="1916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6520" y="2852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1080" y="33577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5400" y="4941720"/>
            <a:ext cx="63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agent community collaborating for collecting (artificial)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3440" y="450864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The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189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4771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6840" y="795240"/>
            <a:ext cx="89517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18:31Z</dcterms:created>
  <dc:creator>cares</dc:creator>
  <dc:description/>
  <dc:language>en-US</dc:language>
  <cp:lastModifiedBy>cares</cp:lastModifiedBy>
  <dcterms:modified xsi:type="dcterms:W3CDTF">2006-12-07T10:51:27Z</dcterms:modified>
  <cp:revision>8</cp:revision>
  <dc:subject/>
  <dc:title>Slide 1</dc:title>
</cp:coreProperties>
</file>