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55D3-F7AA-4684-8C1E-4EEABC7E4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98D-3EFD-45FF-AD1C-DB5A3F71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B50-4626-40A3-88A4-67E4EE96E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E72-AF32-40E8-A352-7069ABDE8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943-BFEB-46DA-868C-7DF10327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759E-7071-4906-B1A0-187769065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2FC3-850B-4688-8CD4-A6A8362E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65F7-1883-444F-BEAD-DCEF70D7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AB19-3D5D-4FAE-842E-F1FC6E06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78B6-C9B3-4F0F-9668-98AA32F27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B510-8DC5-4839-90E1-4395CF49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5681-DADA-489A-AFCF-BEBD5F9C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ACF0-2272-4F02-8195-7A49E55748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2637000"/>
            <a:ext cx="8190000" cy="2390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62160" y="141300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132680" cy="4762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623240" y="98100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forming the DD to Prolo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84360" y="3341520"/>
            <a:ext cx="7354800" cy="28958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23240" y="98100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forming the DD to Prolo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70596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623240" y="981000"/>
            <a:ext cx="512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ansforming the DD to Prolo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14564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64879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1600" y="1268280"/>
            <a:ext cx="55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CLIMA 2006 Contest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907200" y="2349360"/>
            <a:ext cx="707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o a test about different Engineering-Implementation approa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96712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6520" y="1916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6520" y="2852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72240" y="3357720"/>
            <a:ext cx="176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61440" y="4941720"/>
            <a:ext cx="621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set of games where TWO agent teams are competing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artificial) gold nuggets coll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73440" y="450864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The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7777080" cy="43754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748980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799128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02160" y="907920"/>
            <a:ext cx="3026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Contest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IMA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0920" y="2133720"/>
            <a:ext cx="6266160" cy="1515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124000" y="4292640"/>
            <a:ext cx="619308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30880" y="155736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TIVATIO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95960" y="2205000"/>
            <a:ext cx="35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st our learning about Trop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6712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38440" y="2781360"/>
            <a:ext cx="67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ut in practice an Agent-Oriented software developed init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64000" y="3500280"/>
            <a:ext cx="14414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92360" y="4365720"/>
            <a:ext cx="55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articipate in the 1rst Computational Logic for Multi-Agent System Contest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2160" y="907920"/>
            <a:ext cx="3026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Contest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IMA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534348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28360" y="1268280"/>
            <a:ext cx="4281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approach seems to work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916360" y="2565360"/>
            <a:ext cx="322884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0880" y="155736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TIVATION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68320" y="2205000"/>
            <a:ext cx="470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est our approach in a virtual enviro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6712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36640" y="278136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ut in practice some knowledge reuse at 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564000" y="3500280"/>
            <a:ext cx="14414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2360" y="4365720"/>
            <a:ext cx="55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articipate in the 2nd Computational Logic for Multi-Agent System Contest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31600" y="1268280"/>
            <a:ext cx="55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CLIMA 2005 Contest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7200" y="2349360"/>
            <a:ext cx="710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tackle the gap among AOSE methodologies and implemen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67120" y="24400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6520" y="191628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6520" y="2852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261080" y="335772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n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5400" y="4941720"/>
            <a:ext cx="63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 agent community collaborating for collecting (artificial) f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973440" y="450864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The Probl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1895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647712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6840" y="795240"/>
            <a:ext cx="895176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09080" cy="58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487600" y="115920"/>
            <a:ext cx="63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roposPL: Tropos for Prolog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209080" cy="58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18:31Z</dcterms:created>
  <dc:creator>cares</dc:creator>
  <dc:description/>
  <dc:language>en-US</dc:language>
  <cp:lastModifiedBy>cares</cp:lastModifiedBy>
  <dcterms:modified xsi:type="dcterms:W3CDTF">2006-12-07T10:51:27Z</dcterms:modified>
  <cp:revision>8</cp:revision>
  <dc:subject/>
  <dc:title>Slide 1</dc:title>
</cp:coreProperties>
</file>