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4001760"/>
            <a:ext cx="85341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7840" y="129528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400176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7840" y="400176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0680" y="129528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6080" y="129528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400176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0680" y="400176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6080" y="400176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920" y="12952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16448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840" y="1295280"/>
            <a:ext cx="416448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440" y="533160"/>
            <a:ext cx="79246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7840" y="1295280"/>
            <a:ext cx="416448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4920" y="400176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12952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16448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7840" y="129528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7840" y="400176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7840" y="129528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01760"/>
            <a:ext cx="85341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4920" y="4001760"/>
            <a:ext cx="85341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7840" y="129528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400176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7840" y="400176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90680" y="129528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76080" y="129528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4920" y="400176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90680" y="400176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76080" y="400176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16448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7840" y="1295280"/>
            <a:ext cx="416448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440" y="533160"/>
            <a:ext cx="79246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840" y="1295280"/>
            <a:ext cx="416448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400176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16448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840" y="129528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7840" y="400176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7840" y="129528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4001760"/>
            <a:ext cx="85341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35080" y="457200"/>
            <a:ext cx="8686800" cy="6095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04920" y="12952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spcBef>
                <a:spcPts val="1500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1500"/>
              </a:spcBef>
              <a:buClr>
                <a:srgbClr val="4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542960" indent="-171360">
              <a:spcBef>
                <a:spcPts val="15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spcBef>
                <a:spcPts val="15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00160" indent="-171360">
              <a:spcBef>
                <a:spcPts val="15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00160" indent="-171360">
              <a:spcBef>
                <a:spcPts val="15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4327560" y="228600"/>
            <a:ext cx="4587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4fa7"/>
                </a:solidFill>
                <a:latin typeface="Comic Sans MS"/>
              </a:rPr>
              <a:t>Dept of Information and Communication 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149960" y="6553080"/>
            <a:ext cx="18194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ropos'06 -- </a:t>
            </a:r>
            <a:fld id="{AAE8E28D-7EE9-455A-A407-41AADFD343C9}" type="slidenum">
              <a:rPr b="1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0" y="0"/>
          <a:ext cx="2685960" cy="882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268596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35080" y="457200"/>
            <a:ext cx="8686800" cy="6095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"/>
          <p:cNvSpPr/>
          <p:nvPr/>
        </p:nvSpPr>
        <p:spPr>
          <a:xfrm>
            <a:off x="8610480" y="6553080"/>
            <a:ext cx="358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DD482-7113-428A-842F-6461AC923F6E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3360" y="152280"/>
            <a:ext cx="26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Garamond"/>
              </a:rPr>
              <a:t>University of Toro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28600"/>
            <a:ext cx="3505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mic Sans MS"/>
              </a:rPr>
              <a:t>Department of Computer Sci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430200" cy="730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80400" y="6558120"/>
            <a:ext cx="726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2004-5 Steve Easterbrook. This presentation is available free for </a:t>
            </a:r>
            <a:r>
              <a:rPr b="0" lang="en-US" sz="900" spc="-1" strike="noStrike">
                <a:solidFill>
                  <a:srgbClr val="800000"/>
                </a:solidFill>
                <a:latin typeface="Arial"/>
              </a:rPr>
              <a:t>non-commercial use with attributi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under a creative commons license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227160" y="6580080"/>
            <a:ext cx="519120" cy="1825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152280" y="152280"/>
            <a:ext cx="430200" cy="73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49080" y="214776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ropos at the Age of 6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atus and Research Direction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John Mylopoulo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University of Trento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arch 2, 2006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IT, UniTN, Trento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esigning for High Variability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58348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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oftware!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 goal model defines a space of alternatives for fulfilling a goal. Design a system that supports </a:t>
            </a:r>
            <a:r>
              <a:rPr b="1" i="1" lang="en-US" sz="2000" spc="-1" strike="noStrike">
                <a:solidFill>
                  <a:srgbClr val="ff0000"/>
                </a:solidFill>
                <a:latin typeface="Comic Sans MS"/>
              </a:rPr>
              <a:t>all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alternatives rather than one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Generate generic design views from a goal model (Yijun Yu, Alexei Lapouchnian, Sotiris Liaskos), [Yu06]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haracterise goal variability [Liaskos06]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pplication of these ideas to the design of domotic software systems (helps an elderly person live at home [Hui03])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33320" y="711000"/>
            <a:ext cx="79250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rom a Goal Model to a Statechart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279360" y="1757520"/>
          <a:ext cx="2590920" cy="22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360" y="1757520"/>
                    <a:ext cx="2590920" cy="22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" name=""/>
          <p:cNvGraphicFramePr/>
          <p:nvPr/>
        </p:nvGraphicFramePr>
        <p:xfrm>
          <a:off x="3073320" y="1730520"/>
          <a:ext cx="5619960" cy="451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73320" y="1730520"/>
                    <a:ext cx="561996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odeling Preference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58348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ur language for modeling preferences (softgoals, controbutions) is rather coarse-grained.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Use recent results from Knowledge Representation on representing and reasoning with preferences to offer a more expressive language for modeling preference, with suitable tool support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hen a planner looks for a plan to satisfy a goal, it prefers plans that satisfy preferences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Based on work by Sheila McIlraith and her students (Liaskos).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rom Goals to Database Design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23360" y="1295280"/>
            <a:ext cx="815508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Requirements Engineering (RE) has changed dramatically in the past 15 years: early requirements, goal-oriented RE,…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but not database design!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evelop a systematic, tool-supported process for going from goal models, to information models, to conceptual (e.g., ER) schemas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ei Jiang, Thodoros Topaloglou, Alex Borgida [Jiang06]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esigning Business Processe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23360" y="1295280"/>
            <a:ext cx="815508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nstead of generating software designs, let's generate business process designs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ork with IBM's WebSphere Business Modeler group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e have a tool-supported design process that can even generate BPEL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lexei Lapouchnian, Yijun Yu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esigning Autonomic Software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23360" y="1295280"/>
            <a:ext cx="815508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utonomic software: can self-configure, self-repair, self-optimize, (self-protect)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or us,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utonomic = high-variability + monitoring + diagnosis + reconfiguring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e start from AI theories of diagnosis, develop design techniques for monitoring and diagnosis (Yiqiao Wang)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mputer Associates Inc. wants techniques for reengineering their logging and diagnostic facilities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esigning Virtual Organization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23360" y="1295280"/>
            <a:ext cx="815508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nsider a technology park where several SMEs form vistual organizations to carry out large projects (that they can't conduct individually)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How do we design them? How do we analyze the designs?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sis work by Enzo Colombo at the Politecnico di Milano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roposes a 3-view design process: social, intentional and process. Offers analysis techniues for each. i*/Tropos used for the social+intentional views. Patterns are proposed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Longer Term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23360" y="1295280"/>
            <a:ext cx="815508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is is on-going work that is part of someone's PhD thesis.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re is some interest from industry (IBM, CA)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But what might be the longer term objective of all this research (including the work we do in Trento)?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omic Sans MS"/>
              </a:rPr>
              <a:t>A Science of Software Design!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esearch Baseline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8640" y="1295280"/>
            <a:ext cx="802512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odeling social settings with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i*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[Yu93]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spcBef>
                <a:spcPts val="451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mic Sans MS"/>
              </a:rPr>
              <a:t>Proposed as a modeling framework for early requirements, business process reengineering,…</a:t>
            </a:r>
            <a:endParaRPr b="1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marL="285840" indent="-285840"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sign of modeling language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spcBef>
                <a:spcPts val="451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mic Sans MS"/>
              </a:rPr>
              <a:t>Taxis -- design language for information systems (1977-87)</a:t>
            </a:r>
            <a:endParaRPr b="1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685800" indent="-228600">
              <a:spcBef>
                <a:spcPts val="451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mic Sans MS"/>
              </a:rPr>
              <a:t>Telos -- metamodeling language for integrated software development environments (1986-96)</a:t>
            </a:r>
            <a:endParaRPr b="1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67428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amur, Belgium,1995 …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714240"/>
            <a:ext cx="8381880" cy="13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opos*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09640" y="2030400"/>
            <a:ext cx="1541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ＭＳ Ｐゴシック"/>
              </a:rPr>
              <a:t>Ont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3560" y="2629080"/>
            <a:ext cx="184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ＭＳ Ｐゴシック"/>
              </a:rPr>
              <a:t>St</a:t>
            </a: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ＭＳ Ｐゴシック"/>
              </a:rPr>
              <a:t>ructu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65360" y="2098800"/>
            <a:ext cx="64245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Arial"/>
                <a:ea typeface="ＭＳ Ｐゴシック"/>
              </a:rPr>
              <a:t>Processes, actors, dependencies, resources,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89960" y="3683160"/>
            <a:ext cx="18633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ＭＳ Ｐゴシック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ＭＳ Ｐゴシック"/>
              </a:rPr>
              <a:t>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70040" y="3722760"/>
            <a:ext cx="581364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Arial"/>
                <a:ea typeface="ＭＳ Ｐゴシック"/>
              </a:rPr>
              <a:t>Business re-engineering, virtual corporations, enterprise integration, software processes,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35120" y="2668680"/>
            <a:ext cx="6116760" cy="10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Arial"/>
                <a:ea typeface="ＭＳ Ｐゴシック"/>
              </a:rPr>
              <a:t>Contexts, denotation, representation (+ gene-ralization, aggregation, classification and attri-bu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11120" y="4813200"/>
            <a:ext cx="1015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ＭＳ Ｐゴシック"/>
              </a:rPr>
              <a:t>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65360" y="4789440"/>
            <a:ext cx="60753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Arial"/>
                <a:ea typeface="ＭＳ Ｐゴシック"/>
              </a:rPr>
              <a:t>Process re-engineering, analysis, enactment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08000" y="5802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9160" y="5597640"/>
            <a:ext cx="77583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Arial"/>
                <a:ea typeface="ＭＳ Ｐゴシック"/>
              </a:rPr>
              <a:t>Tropo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(G</a:t>
            </a:r>
            <a:r>
              <a:rPr b="0" i="1" lang="en-US" sz="2000" spc="-1" strike="noStrike">
                <a:solidFill>
                  <a:srgbClr val="063de8"/>
                </a:solidFill>
                <a:latin typeface="Arial"/>
                <a:ea typeface="ＭＳ Ｐゴシック"/>
              </a:rPr>
              <a:t>reek) means </a:t>
            </a:r>
            <a:r>
              <a:rPr b="0" i="1" lang="en-US" sz="2000" spc="-1" strike="noStrike">
                <a:solidFill>
                  <a:srgbClr val="fc0128"/>
                </a:solidFill>
                <a:latin typeface="Arial"/>
                <a:ea typeface="ＭＳ Ｐゴシック"/>
              </a:rPr>
              <a:t>manner</a:t>
            </a:r>
            <a:r>
              <a:rPr b="0" i="1" lang="en-US" sz="2000" spc="-1" strike="noStrike">
                <a:solidFill>
                  <a:srgbClr val="063de8"/>
                </a:solidFill>
                <a:latin typeface="Arial"/>
                <a:ea typeface="ＭＳ Ｐゴシック"/>
              </a:rPr>
              <a:t> (as in “manner of doing things</a:t>
            </a:r>
            <a:r>
              <a:rPr b="0" i="1" lang="en-US" sz="2000" spc="-1" strike="noStrike">
                <a:solidFill>
                  <a:srgbClr val="063de8"/>
                </a:solidFill>
                <a:latin typeface="Arial"/>
                <a:ea typeface="ＭＳ Ｐゴシック"/>
              </a:rPr>
              <a:t>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63de8"/>
                </a:solidFill>
                <a:latin typeface="Arial"/>
                <a:ea typeface="ＭＳ Ｐゴシック"/>
              </a:rPr>
              <a:t>[Odyssey, line 1:  "…</a:t>
            </a:r>
            <a:r>
              <a:rPr b="0" i="1" lang="en-US" sz="2000" spc="-1" strike="noStrike">
                <a:solidFill>
                  <a:srgbClr val="063de8"/>
                </a:solidFill>
                <a:latin typeface="Symbol"/>
                <a:ea typeface="Symbol"/>
              </a:rPr>
              <a:t></a:t>
            </a:r>
            <a:r>
              <a:rPr b="0" i="1" lang="en-US" sz="2000" spc="-1" strike="noStrike">
                <a:solidFill>
                  <a:srgbClr val="063de8"/>
                </a:solidFill>
                <a:latin typeface="Arial"/>
                <a:ea typeface="ＭＳ Ｐゴシック"/>
              </a:rPr>
              <a:t>"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 Idea …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9960" y="1295280"/>
            <a:ext cx="841392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oftware Engineering methodologies have come about in a “late-to-early” (or, “downstream-to-upstream”) fashion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n particular, Structured Programming preceded (and influenced!) Structured Analysis and Design; likewise, Object-Oriented Programming preceded Object-Oriented Design and Analysis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n both cases, programming concepts were projected upstream to dictate how designs and requirements are to be conceived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What would happen if we projected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requirements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concepts downstream to define software designs and even implementations?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99"/>
              </a:solidFill>
              <a:latin typeface="Comic Sans MS"/>
            </a:endParaRPr>
          </a:p>
          <a:p>
            <a:pPr lvl="1" marL="6858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Research Project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58348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evelop a software development methodology founded on the notions of </a:t>
            </a:r>
            <a:r>
              <a:rPr b="1" i="1" lang="en-US" sz="2000" spc="-1" strike="noStrike">
                <a:solidFill>
                  <a:srgbClr val="ff0000"/>
                </a:solidFill>
                <a:latin typeface="Comic Sans MS"/>
              </a:rPr>
              <a:t>actor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Comic Sans MS"/>
              </a:rPr>
              <a:t>goal/softgoal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, and strategic actor </a:t>
            </a:r>
            <a:r>
              <a:rPr b="1" i="1" lang="en-US" sz="2000" spc="-1" strike="noStrike">
                <a:solidFill>
                  <a:srgbClr val="ff0000"/>
                </a:solidFill>
                <a:latin typeface="Comic Sans MS"/>
              </a:rPr>
              <a:t>dependency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se concepts are to be used in all phases of software development (as with UML)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f these are the concepts we use to conceive software, we are obviously developing agent-oriented software systems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re are implementation environments for such systems; accordingly we focus on earlier phases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at is Software?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000" y="1295280"/>
            <a:ext cx="82026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n engineering artifact, designed, tested and deployed using engineering methods; rely heavily on testing and inspection for validation (</a:t>
            </a:r>
            <a:r>
              <a:rPr b="1" i="1" lang="en-US" sz="2000" spc="-1" strike="noStrike">
                <a:solidFill>
                  <a:srgbClr val="ff0000"/>
                </a:solidFill>
                <a:latin typeface="Comic Sans MS"/>
              </a:rPr>
              <a:t>Engineering perspective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 mathematical abstraction, a theory, which can be analyzed for consistency and can be refined into a more specialized theory (</a:t>
            </a:r>
            <a:r>
              <a:rPr b="1" i="1" lang="en-US" sz="2000" spc="-1" strike="noStrike">
                <a:solidFill>
                  <a:srgbClr val="ff0000"/>
                </a:solidFill>
                <a:latin typeface="Comic Sans MS"/>
              </a:rPr>
              <a:t>Mathematical perspective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 non-human agent, with its own personality and behavior, defined by its past history and structural makeup (</a:t>
            </a:r>
            <a:r>
              <a:rPr b="1" i="1" lang="en-US" sz="2000" spc="-1" strike="noStrike">
                <a:solidFill>
                  <a:srgbClr val="ff0000"/>
                </a:solidFill>
                <a:latin typeface="Comic Sans MS"/>
              </a:rPr>
              <a:t>CogSci perspective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 social structure of software agents, who communicate, negotiate, collaborate and cooperate to fulfill their goals (</a:t>
            </a:r>
            <a:r>
              <a:rPr b="1" i="1" lang="en-US" sz="2000" spc="-1" strike="noStrike">
                <a:solidFill>
                  <a:srgbClr val="ff0000"/>
                </a:solidFill>
                <a:latin typeface="Comic Sans MS"/>
              </a:rPr>
              <a:t>Social perspective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esearch Task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58348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evelop a methodology, illustrated through case studies ([Castro01], [Bresciani01]), supported by a prototype environment [-&gt;]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evelop formal analysis techniques for Tropos models: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spcBef>
                <a:spcPts val="499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omic Sans MS"/>
              </a:rPr>
              <a:t>Simulation</a:t>
            </a:r>
            <a:r>
              <a:rPr b="1" lang="en-US" sz="2000" spc="-1" strike="noStrike">
                <a:solidFill>
                  <a:srgbClr val="003399"/>
                </a:solidFill>
                <a:latin typeface="Comic Sans MS"/>
              </a:rPr>
              <a:t> through model checking, to explore temporal properties of models [Fuxman01];</a:t>
            </a:r>
            <a:endParaRPr b="1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685800" indent="-228600">
              <a:spcBef>
                <a:spcPts val="499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omic Sans MS"/>
              </a:rPr>
              <a:t>Goal analysis</a:t>
            </a:r>
            <a:r>
              <a:rPr b="1" lang="en-US" sz="2000" spc="-1" strike="noStrike">
                <a:solidFill>
                  <a:srgbClr val="003399"/>
                </a:solidFill>
                <a:latin typeface="Comic Sans MS"/>
              </a:rPr>
              <a:t> that determine the fulfillment of a goal, given information about related goals [Giorgini02];</a:t>
            </a:r>
            <a:endParaRPr b="1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685800" indent="-228600">
              <a:spcBef>
                <a:spcPts val="499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omic Sans MS"/>
              </a:rPr>
              <a:t>Social analysis</a:t>
            </a:r>
            <a:r>
              <a:rPr b="1" lang="en-US" sz="2000" spc="-1" strike="noStrike">
                <a:solidFill>
                  <a:srgbClr val="003399"/>
                </a:solidFill>
                <a:latin typeface="Comic Sans MS"/>
              </a:rPr>
              <a:t> that looks at configurations of actor dependencies [Bryl06].</a:t>
            </a:r>
            <a:endParaRPr b="1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robabilistic Goal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47840" y="1295280"/>
            <a:ext cx="828504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 generated design for a given (generic) goal is supposed to fulfill (all!) its instances …, but in general it won't!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an we make precise claims about a design, e.g., "If D is true X% of the time, then an ambulance can be in the place of accident anywhere in London within 15' 85% of the time"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odeling and reasoning with probabilistic actions (e.g., "submit paper to conference") also an issue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Use DT-Golog, PhD thesis by Mikhail Soutchanski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637320" y="299880"/>
            <a:ext cx="2340000" cy="131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Goal model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"/>
          <p:cNvSpPr/>
          <p:nvPr/>
        </p:nvSpPr>
        <p:spPr>
          <a:xfrm>
            <a:off x="7016760" y="3830760"/>
            <a:ext cx="241200" cy="1434960"/>
          </a:xfrm>
          <a:prstGeom prst="line">
            <a:avLst/>
          </a:prstGeom>
          <a:ln w="93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057640" y="1706400"/>
            <a:ext cx="2064240" cy="3386880"/>
            <a:chOff x="5057640" y="1706400"/>
            <a:chExt cx="2064240" cy="3386880"/>
          </a:xfrm>
        </p:grpSpPr>
        <p:sp>
          <p:nvSpPr>
            <p:cNvPr id="116" name=""/>
            <p:cNvSpPr/>
            <p:nvPr/>
          </p:nvSpPr>
          <p:spPr>
            <a:xfrm flipH="1" flipV="1">
              <a:off x="5070960" y="1717560"/>
              <a:ext cx="2050920" cy="3375720"/>
            </a:xfrm>
            <a:prstGeom prst="line">
              <a:avLst/>
            </a:prstGeom>
            <a:ln w="4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057640" y="1706400"/>
              <a:ext cx="120240" cy="18000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0" y="0"/>
                  </a:moveTo>
                  <a:lnTo>
                    <a:pt x="23" y="46"/>
                  </a:lnTo>
                  <a:lnTo>
                    <a:pt x="43" y="2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46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077080" y="1725840"/>
              <a:ext cx="120240" cy="18000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0" y="0"/>
                  </a:moveTo>
                  <a:lnTo>
                    <a:pt x="20" y="46"/>
                  </a:lnTo>
                  <a:lnTo>
                    <a:pt x="43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 flipH="1">
            <a:off x="3188880" y="2563920"/>
            <a:ext cx="3592440" cy="1296720"/>
          </a:xfrm>
          <a:prstGeom prst="line">
            <a:avLst/>
          </a:prstGeom>
          <a:ln w="468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454800" y="1790640"/>
            <a:ext cx="1098000" cy="438840"/>
            <a:chOff x="6454800" y="1790640"/>
            <a:chExt cx="1098000" cy="438840"/>
          </a:xfrm>
        </p:grpSpPr>
        <p:sp>
          <p:nvSpPr>
            <p:cNvPr id="121" name=""/>
            <p:cNvSpPr/>
            <p:nvPr/>
          </p:nvSpPr>
          <p:spPr>
            <a:xfrm>
              <a:off x="6454800" y="1790640"/>
              <a:ext cx="109800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Courier New"/>
                </a:rPr>
                <a:t>Schedu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Courier New"/>
                </a:rPr>
                <a:t>mee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612480" y="1999080"/>
              <a:ext cx="360" cy="21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255600" y="5653080"/>
            <a:ext cx="96084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By al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me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15920" y="5913360"/>
            <a:ext cx="68652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By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ema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10040" y="3997440"/>
            <a:ext cx="496800" cy="857160"/>
          </a:xfrm>
          <a:prstGeom prst="line">
            <a:avLst/>
          </a:prstGeom>
          <a:ln w="93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724360" y="3808440"/>
            <a:ext cx="1244880" cy="771480"/>
          </a:xfrm>
          <a:prstGeom prst="line">
            <a:avLst/>
          </a:prstGeom>
          <a:ln w="93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820880" y="3997440"/>
            <a:ext cx="1154160" cy="715680"/>
          </a:xfrm>
          <a:prstGeom prst="line">
            <a:avLst/>
          </a:prstGeom>
          <a:ln w="93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058160" y="2602080"/>
            <a:ext cx="2880" cy="1008000"/>
          </a:xfrm>
          <a:prstGeom prst="line">
            <a:avLst/>
          </a:prstGeom>
          <a:ln w="93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1320480" y="4865760"/>
            <a:ext cx="455400" cy="615960"/>
          </a:xfrm>
          <a:prstGeom prst="line">
            <a:avLst/>
          </a:prstGeom>
          <a:ln w="93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854360" y="4865760"/>
            <a:ext cx="698400" cy="1154160"/>
          </a:xfrm>
          <a:prstGeom prst="line">
            <a:avLst/>
          </a:prstGeom>
          <a:ln w="93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3487680" y="5083200"/>
            <a:ext cx="201600" cy="498600"/>
          </a:xfrm>
          <a:prstGeom prst="line">
            <a:avLst/>
          </a:prstGeom>
          <a:ln w="93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716280" y="5064120"/>
            <a:ext cx="725400" cy="905040"/>
          </a:xfrm>
          <a:prstGeom prst="line">
            <a:avLst/>
          </a:prstGeom>
          <a:ln w="93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93280" y="2544840"/>
            <a:ext cx="13788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26480" y="3214800"/>
            <a:ext cx="13788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72520" y="3316320"/>
            <a:ext cx="13788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14200" y="2575080"/>
            <a:ext cx="13788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480920" y="2400480"/>
            <a:ext cx="13788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977720" y="2103480"/>
            <a:ext cx="13788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749600" y="2825640"/>
            <a:ext cx="159480" cy="1895040"/>
            <a:chOff x="1749600" y="2825640"/>
            <a:chExt cx="159480" cy="1895040"/>
          </a:xfrm>
        </p:grpSpPr>
        <p:sp>
          <p:nvSpPr>
            <p:cNvPr id="140" name=""/>
            <p:cNvSpPr/>
            <p:nvPr/>
          </p:nvSpPr>
          <p:spPr>
            <a:xfrm>
              <a:off x="1749600" y="2825640"/>
              <a:ext cx="159480" cy="216000"/>
            </a:xfrm>
            <a:custGeom>
              <a:avLst/>
              <a:gdLst/>
              <a:ahLst/>
              <a:rect l="l" t="t" r="r" b="b"/>
              <a:pathLst>
                <a:path w="36" h="70">
                  <a:moveTo>
                    <a:pt x="20" y="0"/>
                  </a:moveTo>
                  <a:lnTo>
                    <a:pt x="36" y="70"/>
                  </a:lnTo>
                  <a:lnTo>
                    <a:pt x="20" y="46"/>
                  </a:lnTo>
                  <a:lnTo>
                    <a:pt x="0" y="7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1807560" y="2991960"/>
              <a:ext cx="3960" cy="1728720"/>
            </a:xfrm>
            <a:prstGeom prst="line">
              <a:avLst/>
            </a:prstGeom>
            <a:ln w="4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1940040" y="2806560"/>
            <a:ext cx="1465920" cy="2976120"/>
            <a:chOff x="1940040" y="2806560"/>
            <a:chExt cx="1465920" cy="2976120"/>
          </a:xfrm>
        </p:grpSpPr>
        <p:sp>
          <p:nvSpPr>
            <p:cNvPr id="143" name=""/>
            <p:cNvSpPr/>
            <p:nvPr/>
          </p:nvSpPr>
          <p:spPr>
            <a:xfrm>
              <a:off x="1940040" y="2806560"/>
              <a:ext cx="115920" cy="200520"/>
            </a:xfrm>
            <a:custGeom>
              <a:avLst/>
              <a:gdLst/>
              <a:ahLst/>
              <a:rect l="l" t="t" r="r" b="b"/>
              <a:pathLst>
                <a:path w="36" h="59">
                  <a:moveTo>
                    <a:pt x="0" y="0"/>
                  </a:moveTo>
                  <a:lnTo>
                    <a:pt x="36" y="33"/>
                  </a:lnTo>
                  <a:lnTo>
                    <a:pt x="16" y="30"/>
                  </a:lnTo>
                  <a:lnTo>
                    <a:pt x="13" y="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1991880" y="2908440"/>
              <a:ext cx="1414080" cy="2874240"/>
            </a:xfrm>
            <a:prstGeom prst="line">
              <a:avLst/>
            </a:prstGeom>
            <a:ln w="4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4317480" y="2639880"/>
            <a:ext cx="13788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1749600" y="1573200"/>
            <a:ext cx="193680" cy="959040"/>
          </a:xfrm>
          <a:prstGeom prst="line">
            <a:avLst/>
          </a:prstGeom>
          <a:ln w="4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1990800" y="1512720"/>
            <a:ext cx="473040" cy="425520"/>
          </a:xfrm>
          <a:prstGeom prst="line">
            <a:avLst/>
          </a:prstGeom>
          <a:ln w="4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09200" y="1495440"/>
            <a:ext cx="574920" cy="35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55893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55893"/>
              </a:path>
            </a:pathLst>
          </a:custGeom>
          <a:noFill/>
          <a:ln w="4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886200" y="1193400"/>
            <a:ext cx="3240" cy="654120"/>
          </a:xfrm>
          <a:prstGeom prst="line">
            <a:avLst/>
          </a:prstGeom>
          <a:ln w="4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3924360" y="1177560"/>
            <a:ext cx="846000" cy="351000"/>
          </a:xfrm>
          <a:prstGeom prst="line">
            <a:avLst/>
          </a:prstGeom>
          <a:ln w="4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4975200" y="1733400"/>
            <a:ext cx="785160" cy="3066120"/>
            <a:chOff x="4975200" y="1733400"/>
            <a:chExt cx="785160" cy="3066120"/>
          </a:xfrm>
        </p:grpSpPr>
        <p:sp>
          <p:nvSpPr>
            <p:cNvPr id="152" name=""/>
            <p:cNvSpPr/>
            <p:nvPr/>
          </p:nvSpPr>
          <p:spPr>
            <a:xfrm flipH="1" flipV="1">
              <a:off x="4981320" y="1752120"/>
              <a:ext cx="779040" cy="3047400"/>
            </a:xfrm>
            <a:prstGeom prst="line">
              <a:avLst/>
            </a:prstGeom>
            <a:ln w="4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75200" y="1733400"/>
              <a:ext cx="69840" cy="192600"/>
            </a:xfrm>
            <a:custGeom>
              <a:avLst/>
              <a:gdLst/>
              <a:ahLst/>
              <a:rect l="l" t="t" r="r" b="b"/>
              <a:pathLst>
                <a:path w="32" h="50">
                  <a:moveTo>
                    <a:pt x="0" y="0"/>
                  </a:moveTo>
                  <a:lnTo>
                    <a:pt x="6" y="50"/>
                  </a:lnTo>
                  <a:lnTo>
                    <a:pt x="32" y="3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46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983840" y="1752480"/>
              <a:ext cx="74160" cy="189000"/>
            </a:xfrm>
            <a:custGeom>
              <a:avLst/>
              <a:gdLst/>
              <a:ahLst/>
              <a:rect l="l" t="t" r="r" b="b"/>
              <a:pathLst>
                <a:path w="34" h="49">
                  <a:moveTo>
                    <a:pt x="0" y="0"/>
                  </a:moveTo>
                  <a:lnTo>
                    <a:pt x="7" y="49"/>
                  </a:lnTo>
                  <a:lnTo>
                    <a:pt x="34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5430240" y="2103480"/>
            <a:ext cx="13788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736720" y="3735360"/>
            <a:ext cx="686880" cy="388080"/>
            <a:chOff x="2736720" y="3735360"/>
            <a:chExt cx="686880" cy="388080"/>
          </a:xfrm>
        </p:grpSpPr>
        <p:sp>
          <p:nvSpPr>
            <p:cNvPr id="157" name=""/>
            <p:cNvSpPr/>
            <p:nvPr/>
          </p:nvSpPr>
          <p:spPr>
            <a:xfrm>
              <a:off x="2736720" y="3735360"/>
              <a:ext cx="673200" cy="376920"/>
            </a:xfrm>
            <a:prstGeom prst="ellipse">
              <a:avLst/>
            </a:prstGeom>
            <a:solidFill>
              <a:srgbClr val="fb06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736720" y="3735360"/>
              <a:ext cx="686880" cy="388080"/>
            </a:xfrm>
            <a:prstGeom prst="ellipse">
              <a:avLst/>
            </a:prstGeom>
            <a:solidFill>
              <a:srgbClr val="fb06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087800" y="5835600"/>
            <a:ext cx="681840" cy="388440"/>
            <a:chOff x="4087800" y="5835600"/>
            <a:chExt cx="681840" cy="388440"/>
          </a:xfrm>
        </p:grpSpPr>
        <p:sp>
          <p:nvSpPr>
            <p:cNvPr id="160" name=""/>
            <p:cNvSpPr/>
            <p:nvPr/>
          </p:nvSpPr>
          <p:spPr>
            <a:xfrm>
              <a:off x="4087800" y="5835600"/>
              <a:ext cx="672120" cy="377280"/>
            </a:xfrm>
            <a:prstGeom prst="ellipse">
              <a:avLst/>
            </a:prstGeom>
            <a:solidFill>
              <a:srgbClr val="fb06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087800" y="5835600"/>
              <a:ext cx="681840" cy="388440"/>
            </a:xfrm>
            <a:prstGeom prst="ellipse">
              <a:avLst/>
            </a:prstGeom>
            <a:solidFill>
              <a:srgbClr val="fb06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144960" y="5538960"/>
            <a:ext cx="686520" cy="388080"/>
            <a:chOff x="3144960" y="5538960"/>
            <a:chExt cx="686520" cy="388080"/>
          </a:xfrm>
        </p:grpSpPr>
        <p:sp>
          <p:nvSpPr>
            <p:cNvPr id="163" name=""/>
            <p:cNvSpPr/>
            <p:nvPr/>
          </p:nvSpPr>
          <p:spPr>
            <a:xfrm>
              <a:off x="3144960" y="5538960"/>
              <a:ext cx="672840" cy="376200"/>
            </a:xfrm>
            <a:prstGeom prst="ellipse">
              <a:avLst/>
            </a:prstGeom>
            <a:solidFill>
              <a:srgbClr val="fb06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44960" y="5538960"/>
              <a:ext cx="686520" cy="388080"/>
            </a:xfrm>
            <a:prstGeom prst="ellipse">
              <a:avLst/>
            </a:prstGeom>
            <a:solidFill>
              <a:srgbClr val="fb06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3344760" y="4710240"/>
            <a:ext cx="686880" cy="386640"/>
            <a:chOff x="3344760" y="4710240"/>
            <a:chExt cx="686880" cy="386640"/>
          </a:xfrm>
        </p:grpSpPr>
        <p:sp>
          <p:nvSpPr>
            <p:cNvPr id="166" name=""/>
            <p:cNvSpPr/>
            <p:nvPr/>
          </p:nvSpPr>
          <p:spPr>
            <a:xfrm>
              <a:off x="3344760" y="4710240"/>
              <a:ext cx="677160" cy="375480"/>
            </a:xfrm>
            <a:prstGeom prst="ellipse">
              <a:avLst/>
            </a:prstGeom>
            <a:solidFill>
              <a:srgbClr val="fb06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344760" y="4710240"/>
              <a:ext cx="686880" cy="386640"/>
            </a:xfrm>
            <a:prstGeom prst="ellipse">
              <a:avLst/>
            </a:prstGeom>
            <a:solidFill>
              <a:srgbClr val="fb06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535040" y="4637160"/>
            <a:ext cx="686880" cy="388080"/>
            <a:chOff x="1535040" y="4637160"/>
            <a:chExt cx="686880" cy="388080"/>
          </a:xfrm>
        </p:grpSpPr>
        <p:sp>
          <p:nvSpPr>
            <p:cNvPr id="169" name=""/>
            <p:cNvSpPr/>
            <p:nvPr/>
          </p:nvSpPr>
          <p:spPr>
            <a:xfrm>
              <a:off x="1535040" y="4637160"/>
              <a:ext cx="676080" cy="376920"/>
            </a:xfrm>
            <a:prstGeom prst="ellipse">
              <a:avLst/>
            </a:prstGeom>
            <a:solidFill>
              <a:srgbClr val="fb06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35040" y="4637160"/>
              <a:ext cx="686880" cy="388080"/>
            </a:xfrm>
            <a:prstGeom prst="ellipse">
              <a:avLst/>
            </a:prstGeom>
            <a:solidFill>
              <a:srgbClr val="fb06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919080" y="5388120"/>
            <a:ext cx="683640" cy="386640"/>
            <a:chOff x="919080" y="5388120"/>
            <a:chExt cx="683640" cy="386640"/>
          </a:xfrm>
        </p:grpSpPr>
        <p:sp>
          <p:nvSpPr>
            <p:cNvPr id="172" name=""/>
            <p:cNvSpPr/>
            <p:nvPr/>
          </p:nvSpPr>
          <p:spPr>
            <a:xfrm>
              <a:off x="919080" y="5388120"/>
              <a:ext cx="672840" cy="375480"/>
            </a:xfrm>
            <a:prstGeom prst="ellipse">
              <a:avLst/>
            </a:prstGeom>
            <a:solidFill>
              <a:srgbClr val="fb06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19080" y="5388120"/>
              <a:ext cx="683640" cy="386640"/>
            </a:xfrm>
            <a:prstGeom prst="ellipse">
              <a:avLst/>
            </a:prstGeom>
            <a:solidFill>
              <a:srgbClr val="fb06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2335320" y="5764320"/>
            <a:ext cx="681840" cy="386640"/>
            <a:chOff x="2335320" y="5764320"/>
            <a:chExt cx="681840" cy="386640"/>
          </a:xfrm>
        </p:grpSpPr>
        <p:sp>
          <p:nvSpPr>
            <p:cNvPr id="175" name=""/>
            <p:cNvSpPr/>
            <p:nvPr/>
          </p:nvSpPr>
          <p:spPr>
            <a:xfrm>
              <a:off x="2335320" y="5764320"/>
              <a:ext cx="672120" cy="374760"/>
            </a:xfrm>
            <a:prstGeom prst="ellipse">
              <a:avLst/>
            </a:prstGeom>
            <a:solidFill>
              <a:srgbClr val="fb06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35320" y="5764320"/>
              <a:ext cx="681840" cy="386640"/>
            </a:xfrm>
            <a:prstGeom prst="ellipse">
              <a:avLst/>
            </a:prstGeom>
            <a:solidFill>
              <a:srgbClr val="fb06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4260960" y="5684760"/>
            <a:ext cx="408600" cy="401040"/>
            <a:chOff x="4260960" y="5684760"/>
            <a:chExt cx="408600" cy="401040"/>
          </a:xfrm>
        </p:grpSpPr>
        <p:grpSp>
          <p:nvGrpSpPr>
            <p:cNvPr id="178" name=""/>
            <p:cNvGrpSpPr/>
            <p:nvPr/>
          </p:nvGrpSpPr>
          <p:grpSpPr>
            <a:xfrm>
              <a:off x="4277880" y="5696640"/>
              <a:ext cx="391680" cy="389160"/>
              <a:chOff x="4277880" y="5696640"/>
              <a:chExt cx="391680" cy="389160"/>
            </a:xfrm>
          </p:grpSpPr>
          <p:grpSp>
            <p:nvGrpSpPr>
              <p:cNvPr id="179" name=""/>
              <p:cNvGrpSpPr/>
              <p:nvPr/>
            </p:nvGrpSpPr>
            <p:grpSpPr>
              <a:xfrm>
                <a:off x="4280760" y="5703480"/>
                <a:ext cx="385560" cy="374760"/>
                <a:chOff x="4280760" y="5703480"/>
                <a:chExt cx="385560" cy="37476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4297320" y="5722200"/>
                  <a:ext cx="369000" cy="356040"/>
                </a:xfrm>
                <a:custGeom>
                  <a:avLst/>
                  <a:gdLst/>
                  <a:ahLst/>
                  <a:rect l="l" t="t" r="r" b="b"/>
                  <a:pathLst>
                    <a:path w="109" h="94">
                      <a:moveTo>
                        <a:pt x="0" y="48"/>
                      </a:moveTo>
                      <a:lnTo>
                        <a:pt x="27" y="94"/>
                      </a:lnTo>
                      <a:lnTo>
                        <a:pt x="109" y="0"/>
                      </a:lnTo>
                      <a:lnTo>
                        <a:pt x="27" y="70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4280760" y="5703480"/>
                  <a:ext cx="369000" cy="356040"/>
                </a:xfrm>
                <a:custGeom>
                  <a:avLst/>
                  <a:gdLst/>
                  <a:ahLst/>
                  <a:rect l="l" t="t" r="r" b="b"/>
                  <a:pathLst>
                    <a:path w="109" h="94">
                      <a:moveTo>
                        <a:pt x="0" y="48"/>
                      </a:moveTo>
                      <a:lnTo>
                        <a:pt x="28" y="94"/>
                      </a:lnTo>
                      <a:lnTo>
                        <a:pt x="109" y="0"/>
                      </a:lnTo>
                      <a:lnTo>
                        <a:pt x="28" y="70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noFill/>
                <a:ln w="4680">
                  <a:solidFill>
                    <a:srgbClr val="020a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4277880" y="5696640"/>
                <a:ext cx="391680" cy="389160"/>
                <a:chOff x="4277880" y="5696640"/>
                <a:chExt cx="391680" cy="38916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4294440" y="5715360"/>
                  <a:ext cx="375120" cy="370440"/>
                </a:xfrm>
                <a:custGeom>
                  <a:avLst/>
                  <a:gdLst/>
                  <a:ahLst/>
                  <a:rect l="l" t="t" r="r" b="b"/>
                  <a:pathLst>
                    <a:path w="111" h="98">
                      <a:moveTo>
                        <a:pt x="0" y="50"/>
                      </a:moveTo>
                      <a:lnTo>
                        <a:pt x="28" y="98"/>
                      </a:lnTo>
                      <a:lnTo>
                        <a:pt x="111" y="0"/>
                      </a:lnTo>
                      <a:lnTo>
                        <a:pt x="28" y="74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277880" y="5696640"/>
                  <a:ext cx="379080" cy="370440"/>
                </a:xfrm>
                <a:custGeom>
                  <a:avLst/>
                  <a:gdLst/>
                  <a:ahLst/>
                  <a:rect l="l" t="t" r="r" b="b"/>
                  <a:pathLst>
                    <a:path w="112" h="98">
                      <a:moveTo>
                        <a:pt x="0" y="50"/>
                      </a:moveTo>
                      <a:lnTo>
                        <a:pt x="29" y="98"/>
                      </a:lnTo>
                      <a:lnTo>
                        <a:pt x="112" y="0"/>
                      </a:lnTo>
                      <a:lnTo>
                        <a:pt x="29" y="74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noFill/>
                <a:ln w="4680">
                  <a:solidFill>
                    <a:srgbClr val="020a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5" name=""/>
            <p:cNvGrpSpPr/>
            <p:nvPr/>
          </p:nvGrpSpPr>
          <p:grpSpPr>
            <a:xfrm>
              <a:off x="4260960" y="5684760"/>
              <a:ext cx="408600" cy="401040"/>
              <a:chOff x="4260960" y="5684760"/>
              <a:chExt cx="408600" cy="401040"/>
            </a:xfrm>
          </p:grpSpPr>
          <p:grpSp>
            <p:nvGrpSpPr>
              <p:cNvPr id="186" name=""/>
              <p:cNvGrpSpPr/>
              <p:nvPr/>
            </p:nvGrpSpPr>
            <p:grpSpPr>
              <a:xfrm>
                <a:off x="4267080" y="5692320"/>
                <a:ext cx="399960" cy="385200"/>
                <a:chOff x="4267080" y="5692320"/>
                <a:chExt cx="399960" cy="38520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4280760" y="5707440"/>
                  <a:ext cx="386280" cy="370080"/>
                </a:xfrm>
                <a:custGeom>
                  <a:avLst/>
                  <a:gdLst/>
                  <a:ahLst/>
                  <a:rect l="l" t="t" r="r" b="b"/>
                  <a:pathLst>
                    <a:path w="114" h="98">
                      <a:moveTo>
                        <a:pt x="0" y="48"/>
                      </a:moveTo>
                      <a:lnTo>
                        <a:pt x="29" y="98"/>
                      </a:lnTo>
                      <a:lnTo>
                        <a:pt x="114" y="0"/>
                      </a:lnTo>
                      <a:lnTo>
                        <a:pt x="29" y="74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267080" y="5692320"/>
                  <a:ext cx="383040" cy="366840"/>
                </a:xfrm>
                <a:custGeom>
                  <a:avLst/>
                  <a:gdLst/>
                  <a:ahLst/>
                  <a:rect l="l" t="t" r="r" b="b"/>
                  <a:pathLst>
                    <a:path w="113" h="97">
                      <a:moveTo>
                        <a:pt x="0" y="48"/>
                      </a:moveTo>
                      <a:lnTo>
                        <a:pt x="28" y="97"/>
                      </a:lnTo>
                      <a:lnTo>
                        <a:pt x="113" y="0"/>
                      </a:lnTo>
                      <a:lnTo>
                        <a:pt x="28" y="73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noFill/>
                <a:ln w="4680">
                  <a:solidFill>
                    <a:srgbClr val="020a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4260960" y="5684760"/>
                <a:ext cx="408600" cy="401040"/>
                <a:chOff x="4260960" y="5684760"/>
                <a:chExt cx="408600" cy="40104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4277520" y="5703480"/>
                  <a:ext cx="392040" cy="382320"/>
                </a:xfrm>
                <a:custGeom>
                  <a:avLst/>
                  <a:gdLst/>
                  <a:ahLst/>
                  <a:rect l="l" t="t" r="r" b="b"/>
                  <a:pathLst>
                    <a:path w="116" h="101">
                      <a:moveTo>
                        <a:pt x="0" y="49"/>
                      </a:moveTo>
                      <a:lnTo>
                        <a:pt x="29" y="101"/>
                      </a:lnTo>
                      <a:lnTo>
                        <a:pt x="116" y="0"/>
                      </a:lnTo>
                      <a:lnTo>
                        <a:pt x="29" y="75"/>
                      </a:lnTo>
                      <a:lnTo>
                        <a:pt x="0" y="4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260960" y="5684760"/>
                  <a:ext cx="396000" cy="382320"/>
                </a:xfrm>
                <a:custGeom>
                  <a:avLst/>
                  <a:gdLst/>
                  <a:ahLst/>
                  <a:rect l="l" t="t" r="r" b="b"/>
                  <a:pathLst>
                    <a:path w="117" h="101">
                      <a:moveTo>
                        <a:pt x="0" y="50"/>
                      </a:moveTo>
                      <a:lnTo>
                        <a:pt x="29" y="101"/>
                      </a:lnTo>
                      <a:lnTo>
                        <a:pt x="117" y="0"/>
                      </a:lnTo>
                      <a:lnTo>
                        <a:pt x="29" y="75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noFill/>
                <a:ln w="4680">
                  <a:solidFill>
                    <a:srgbClr val="020a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92" name=""/>
          <p:cNvGrpSpPr/>
          <p:nvPr/>
        </p:nvGrpSpPr>
        <p:grpSpPr>
          <a:xfrm>
            <a:off x="3317760" y="5380200"/>
            <a:ext cx="405720" cy="401040"/>
            <a:chOff x="3317760" y="5380200"/>
            <a:chExt cx="405720" cy="401040"/>
          </a:xfrm>
        </p:grpSpPr>
        <p:grpSp>
          <p:nvGrpSpPr>
            <p:cNvPr id="193" name=""/>
            <p:cNvGrpSpPr/>
            <p:nvPr/>
          </p:nvGrpSpPr>
          <p:grpSpPr>
            <a:xfrm>
              <a:off x="3334680" y="5398920"/>
              <a:ext cx="388800" cy="381960"/>
              <a:chOff x="3334680" y="5398920"/>
              <a:chExt cx="388800" cy="381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3341520" y="5402160"/>
                <a:ext cx="379440" cy="370800"/>
                <a:chOff x="3341520" y="5402160"/>
                <a:chExt cx="379440" cy="37080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3355200" y="5420880"/>
                  <a:ext cx="365760" cy="352080"/>
                </a:xfrm>
                <a:custGeom>
                  <a:avLst/>
                  <a:gdLst/>
                  <a:ahLst/>
                  <a:rect l="l" t="t" r="r" b="b"/>
                  <a:pathLst>
                    <a:path w="108" h="93">
                      <a:moveTo>
                        <a:pt x="0" y="47"/>
                      </a:moveTo>
                      <a:lnTo>
                        <a:pt x="28" y="93"/>
                      </a:lnTo>
                      <a:lnTo>
                        <a:pt x="108" y="0"/>
                      </a:lnTo>
                      <a:lnTo>
                        <a:pt x="28" y="7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3341520" y="5402160"/>
                  <a:ext cx="362520" cy="352080"/>
                </a:xfrm>
                <a:custGeom>
                  <a:avLst/>
                  <a:gdLst/>
                  <a:ahLst/>
                  <a:rect l="l" t="t" r="r" b="b"/>
                  <a:pathLst>
                    <a:path w="107" h="93">
                      <a:moveTo>
                        <a:pt x="0" y="47"/>
                      </a:moveTo>
                      <a:lnTo>
                        <a:pt x="27" y="93"/>
                      </a:lnTo>
                      <a:lnTo>
                        <a:pt x="107" y="0"/>
                      </a:lnTo>
                      <a:lnTo>
                        <a:pt x="27" y="7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noFill/>
                <a:ln w="4680">
                  <a:solidFill>
                    <a:srgbClr val="020a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3334680" y="5398920"/>
                <a:ext cx="388800" cy="381960"/>
                <a:chOff x="3334680" y="5398920"/>
                <a:chExt cx="388800" cy="38196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3351240" y="5417640"/>
                  <a:ext cx="372240" cy="363240"/>
                </a:xfrm>
                <a:custGeom>
                  <a:avLst/>
                  <a:gdLst/>
                  <a:ahLst/>
                  <a:rect l="l" t="t" r="r" b="b"/>
                  <a:pathLst>
                    <a:path w="110" h="96">
                      <a:moveTo>
                        <a:pt x="0" y="48"/>
                      </a:moveTo>
                      <a:lnTo>
                        <a:pt x="27" y="96"/>
                      </a:lnTo>
                      <a:lnTo>
                        <a:pt x="110" y="0"/>
                      </a:lnTo>
                      <a:lnTo>
                        <a:pt x="27" y="72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3334680" y="5398920"/>
                  <a:ext cx="372240" cy="363240"/>
                </a:xfrm>
                <a:custGeom>
                  <a:avLst/>
                  <a:gdLst/>
                  <a:ahLst/>
                  <a:rect l="l" t="t" r="r" b="b"/>
                  <a:pathLst>
                    <a:path w="110" h="96">
                      <a:moveTo>
                        <a:pt x="0" y="48"/>
                      </a:moveTo>
                      <a:lnTo>
                        <a:pt x="27" y="96"/>
                      </a:lnTo>
                      <a:lnTo>
                        <a:pt x="110" y="0"/>
                      </a:lnTo>
                      <a:lnTo>
                        <a:pt x="27" y="72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noFill/>
                <a:ln w="4680">
                  <a:solidFill>
                    <a:srgbClr val="020a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0" name=""/>
            <p:cNvGrpSpPr/>
            <p:nvPr/>
          </p:nvGrpSpPr>
          <p:grpSpPr>
            <a:xfrm>
              <a:off x="3317760" y="5380200"/>
              <a:ext cx="405720" cy="401040"/>
              <a:chOff x="3317760" y="5380200"/>
              <a:chExt cx="405720" cy="401040"/>
            </a:xfrm>
          </p:grpSpPr>
          <p:grpSp>
            <p:nvGrpSpPr>
              <p:cNvPr id="201" name=""/>
              <p:cNvGrpSpPr/>
              <p:nvPr/>
            </p:nvGrpSpPr>
            <p:grpSpPr>
              <a:xfrm>
                <a:off x="3324600" y="5391360"/>
                <a:ext cx="396000" cy="382320"/>
                <a:chOff x="3324600" y="5391360"/>
                <a:chExt cx="396000" cy="38232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3341160" y="5410080"/>
                  <a:ext cx="379440" cy="363600"/>
                </a:xfrm>
                <a:custGeom>
                  <a:avLst/>
                  <a:gdLst/>
                  <a:ahLst/>
                  <a:rect l="l" t="t" r="r" b="b"/>
                  <a:pathLst>
                    <a:path w="112" h="96">
                      <a:moveTo>
                        <a:pt x="0" y="48"/>
                      </a:moveTo>
                      <a:lnTo>
                        <a:pt x="27" y="96"/>
                      </a:lnTo>
                      <a:lnTo>
                        <a:pt x="112" y="0"/>
                      </a:lnTo>
                      <a:lnTo>
                        <a:pt x="27" y="72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324600" y="5391360"/>
                  <a:ext cx="379440" cy="363600"/>
                </a:xfrm>
                <a:custGeom>
                  <a:avLst/>
                  <a:gdLst/>
                  <a:ahLst/>
                  <a:rect l="l" t="t" r="r" b="b"/>
                  <a:pathLst>
                    <a:path w="112" h="96">
                      <a:moveTo>
                        <a:pt x="0" y="48"/>
                      </a:moveTo>
                      <a:lnTo>
                        <a:pt x="27" y="96"/>
                      </a:lnTo>
                      <a:lnTo>
                        <a:pt x="112" y="0"/>
                      </a:lnTo>
                      <a:lnTo>
                        <a:pt x="27" y="72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noFill/>
                <a:ln w="4680">
                  <a:solidFill>
                    <a:srgbClr val="020a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3317760" y="5380200"/>
                <a:ext cx="405720" cy="401040"/>
                <a:chOff x="3317760" y="5380200"/>
                <a:chExt cx="405720" cy="40104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3334320" y="5402520"/>
                  <a:ext cx="389160" cy="378720"/>
                </a:xfrm>
                <a:custGeom>
                  <a:avLst/>
                  <a:gdLst/>
                  <a:ahLst/>
                  <a:rect l="l" t="t" r="r" b="b"/>
                  <a:pathLst>
                    <a:path w="115" h="100">
                      <a:moveTo>
                        <a:pt x="0" y="50"/>
                      </a:moveTo>
                      <a:lnTo>
                        <a:pt x="29" y="100"/>
                      </a:lnTo>
                      <a:lnTo>
                        <a:pt x="115" y="0"/>
                      </a:lnTo>
                      <a:lnTo>
                        <a:pt x="29" y="76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317760" y="5380200"/>
                  <a:ext cx="389160" cy="382320"/>
                </a:xfrm>
                <a:custGeom>
                  <a:avLst/>
                  <a:gdLst/>
                  <a:ahLst/>
                  <a:rect l="l" t="t" r="r" b="b"/>
                  <a:pathLst>
                    <a:path w="115" h="101">
                      <a:moveTo>
                        <a:pt x="0" y="51"/>
                      </a:moveTo>
                      <a:lnTo>
                        <a:pt x="29" y="101"/>
                      </a:lnTo>
                      <a:lnTo>
                        <a:pt x="115" y="0"/>
                      </a:lnTo>
                      <a:lnTo>
                        <a:pt x="29" y="77"/>
                      </a:lnTo>
                      <a:lnTo>
                        <a:pt x="0" y="51"/>
                      </a:lnTo>
                      <a:close/>
                    </a:path>
                  </a:pathLst>
                </a:custGeom>
                <a:noFill/>
                <a:ln w="4680">
                  <a:solidFill>
                    <a:srgbClr val="020a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07" name=""/>
          <p:cNvGrpSpPr/>
          <p:nvPr/>
        </p:nvGrpSpPr>
        <p:grpSpPr>
          <a:xfrm>
            <a:off x="5299200" y="4484520"/>
            <a:ext cx="686520" cy="388440"/>
            <a:chOff x="5299200" y="4484520"/>
            <a:chExt cx="686520" cy="388440"/>
          </a:xfrm>
        </p:grpSpPr>
        <p:sp>
          <p:nvSpPr>
            <p:cNvPr id="208" name=""/>
            <p:cNvSpPr/>
            <p:nvPr/>
          </p:nvSpPr>
          <p:spPr>
            <a:xfrm>
              <a:off x="5299200" y="4484520"/>
              <a:ext cx="676440" cy="377280"/>
            </a:xfrm>
            <a:prstGeom prst="ellipse">
              <a:avLst/>
            </a:prstGeom>
            <a:solidFill>
              <a:srgbClr val="fb06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299200" y="4484520"/>
              <a:ext cx="686520" cy="388440"/>
            </a:xfrm>
            <a:prstGeom prst="ellipse">
              <a:avLst/>
            </a:prstGeom>
            <a:solidFill>
              <a:srgbClr val="fb06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986520" y="5086440"/>
            <a:ext cx="686880" cy="391320"/>
            <a:chOff x="6986520" y="5086440"/>
            <a:chExt cx="686880" cy="391320"/>
          </a:xfrm>
        </p:grpSpPr>
        <p:sp>
          <p:nvSpPr>
            <p:cNvPr id="211" name=""/>
            <p:cNvSpPr/>
            <p:nvPr/>
          </p:nvSpPr>
          <p:spPr>
            <a:xfrm>
              <a:off x="6986520" y="5086440"/>
              <a:ext cx="676080" cy="376560"/>
            </a:xfrm>
            <a:prstGeom prst="ellipse">
              <a:avLst/>
            </a:prstGeom>
            <a:solidFill>
              <a:srgbClr val="fb06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986520" y="5086440"/>
              <a:ext cx="686880" cy="391320"/>
            </a:xfrm>
            <a:prstGeom prst="ellipse">
              <a:avLst/>
            </a:prstGeom>
            <a:solidFill>
              <a:srgbClr val="fb06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6697800" y="3610080"/>
            <a:ext cx="683280" cy="386640"/>
            <a:chOff x="6697800" y="3610080"/>
            <a:chExt cx="683280" cy="386640"/>
          </a:xfrm>
        </p:grpSpPr>
        <p:sp>
          <p:nvSpPr>
            <p:cNvPr id="214" name=""/>
            <p:cNvSpPr/>
            <p:nvPr/>
          </p:nvSpPr>
          <p:spPr>
            <a:xfrm>
              <a:off x="6697800" y="3610080"/>
              <a:ext cx="673200" cy="375480"/>
            </a:xfrm>
            <a:prstGeom prst="ellipse">
              <a:avLst/>
            </a:prstGeom>
            <a:solidFill>
              <a:srgbClr val="fb06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697800" y="3610080"/>
              <a:ext cx="683280" cy="386640"/>
            </a:xfrm>
            <a:prstGeom prst="ellipse">
              <a:avLst/>
            </a:prstGeom>
            <a:solidFill>
              <a:srgbClr val="fb06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6683400" y="2239920"/>
            <a:ext cx="683640" cy="386640"/>
            <a:chOff x="6683400" y="2239920"/>
            <a:chExt cx="683640" cy="386640"/>
          </a:xfrm>
        </p:grpSpPr>
        <p:sp>
          <p:nvSpPr>
            <p:cNvPr id="217" name=""/>
            <p:cNvSpPr/>
            <p:nvPr/>
          </p:nvSpPr>
          <p:spPr>
            <a:xfrm>
              <a:off x="6683400" y="2239920"/>
              <a:ext cx="673560" cy="375480"/>
            </a:xfrm>
            <a:prstGeom prst="ellipse">
              <a:avLst/>
            </a:prstGeom>
            <a:solidFill>
              <a:srgbClr val="fb06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683400" y="2239920"/>
              <a:ext cx="683640" cy="386640"/>
            </a:xfrm>
            <a:prstGeom prst="ellipse">
              <a:avLst/>
            </a:prstGeom>
            <a:solidFill>
              <a:srgbClr val="fb06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5475240" y="4332240"/>
            <a:ext cx="410760" cy="397800"/>
            <a:chOff x="5475240" y="4332240"/>
            <a:chExt cx="410760" cy="397800"/>
          </a:xfrm>
        </p:grpSpPr>
        <p:grpSp>
          <p:nvGrpSpPr>
            <p:cNvPr id="220" name=""/>
            <p:cNvGrpSpPr/>
            <p:nvPr/>
          </p:nvGrpSpPr>
          <p:grpSpPr>
            <a:xfrm>
              <a:off x="5488920" y="4343400"/>
              <a:ext cx="397080" cy="386640"/>
              <a:chOff x="5488920" y="4343400"/>
              <a:chExt cx="397080" cy="386640"/>
            </a:xfrm>
          </p:grpSpPr>
          <p:grpSp>
            <p:nvGrpSpPr>
              <p:cNvPr id="221" name=""/>
              <p:cNvGrpSpPr/>
              <p:nvPr/>
            </p:nvGrpSpPr>
            <p:grpSpPr>
              <a:xfrm>
                <a:off x="5495040" y="4346640"/>
                <a:ext cx="387000" cy="379080"/>
                <a:chOff x="5495040" y="4346640"/>
                <a:chExt cx="387000" cy="37908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5511960" y="4373280"/>
                  <a:ext cx="370080" cy="352440"/>
                </a:xfrm>
                <a:custGeom>
                  <a:avLst/>
                  <a:gdLst/>
                  <a:ahLst/>
                  <a:rect l="l" t="t" r="r" b="b"/>
                  <a:pathLst>
                    <a:path w="109" h="93">
                      <a:moveTo>
                        <a:pt x="0" y="46"/>
                      </a:moveTo>
                      <a:lnTo>
                        <a:pt x="27" y="93"/>
                      </a:lnTo>
                      <a:lnTo>
                        <a:pt x="109" y="0"/>
                      </a:lnTo>
                      <a:lnTo>
                        <a:pt x="27" y="69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5495040" y="4346640"/>
                  <a:ext cx="370080" cy="360360"/>
                </a:xfrm>
                <a:custGeom>
                  <a:avLst/>
                  <a:gdLst/>
                  <a:ahLst/>
                  <a:rect l="l" t="t" r="r" b="b"/>
                  <a:pathLst>
                    <a:path w="109" h="95">
                      <a:moveTo>
                        <a:pt x="0" y="48"/>
                      </a:moveTo>
                      <a:lnTo>
                        <a:pt x="27" y="95"/>
                      </a:lnTo>
                      <a:lnTo>
                        <a:pt x="109" y="0"/>
                      </a:lnTo>
                      <a:lnTo>
                        <a:pt x="27" y="71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noFill/>
                <a:ln w="4680">
                  <a:solidFill>
                    <a:srgbClr val="020a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5488920" y="4343400"/>
                <a:ext cx="397080" cy="386640"/>
                <a:chOff x="5488920" y="4343400"/>
                <a:chExt cx="397080" cy="38664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505840" y="4366440"/>
                  <a:ext cx="380160" cy="363600"/>
                </a:xfrm>
                <a:custGeom>
                  <a:avLst/>
                  <a:gdLst/>
                  <a:ahLst/>
                  <a:rect l="l" t="t" r="r" b="b"/>
                  <a:pathLst>
                    <a:path w="112" h="96">
                      <a:moveTo>
                        <a:pt x="0" y="48"/>
                      </a:moveTo>
                      <a:lnTo>
                        <a:pt x="29" y="96"/>
                      </a:lnTo>
                      <a:lnTo>
                        <a:pt x="112" y="0"/>
                      </a:lnTo>
                      <a:lnTo>
                        <a:pt x="29" y="72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5488920" y="4343400"/>
                  <a:ext cx="379440" cy="367920"/>
                </a:xfrm>
                <a:custGeom>
                  <a:avLst/>
                  <a:gdLst/>
                  <a:ahLst/>
                  <a:rect l="l" t="t" r="r" b="b"/>
                  <a:pathLst>
                    <a:path w="112" h="97">
                      <a:moveTo>
                        <a:pt x="0" y="49"/>
                      </a:moveTo>
                      <a:lnTo>
                        <a:pt x="29" y="97"/>
                      </a:lnTo>
                      <a:lnTo>
                        <a:pt x="112" y="0"/>
                      </a:lnTo>
                      <a:lnTo>
                        <a:pt x="29" y="73"/>
                      </a:lnTo>
                      <a:lnTo>
                        <a:pt x="0" y="49"/>
                      </a:lnTo>
                      <a:close/>
                    </a:path>
                  </a:pathLst>
                </a:custGeom>
                <a:noFill/>
                <a:ln w="4680">
                  <a:solidFill>
                    <a:srgbClr val="020a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7" name=""/>
            <p:cNvGrpSpPr/>
            <p:nvPr/>
          </p:nvGrpSpPr>
          <p:grpSpPr>
            <a:xfrm>
              <a:off x="5475240" y="4332240"/>
              <a:ext cx="410760" cy="397800"/>
              <a:chOff x="5475240" y="4332240"/>
              <a:chExt cx="410760" cy="397800"/>
            </a:xfrm>
          </p:grpSpPr>
          <p:grpSp>
            <p:nvGrpSpPr>
              <p:cNvPr id="228" name=""/>
              <p:cNvGrpSpPr/>
              <p:nvPr/>
            </p:nvGrpSpPr>
            <p:grpSpPr>
              <a:xfrm>
                <a:off x="5478120" y="4335480"/>
                <a:ext cx="403920" cy="390240"/>
                <a:chOff x="5478120" y="4335480"/>
                <a:chExt cx="403920" cy="39024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495040" y="4354200"/>
                  <a:ext cx="387000" cy="371520"/>
                </a:xfrm>
                <a:custGeom>
                  <a:avLst/>
                  <a:gdLst/>
                  <a:ahLst/>
                  <a:rect l="l" t="t" r="r" b="b"/>
                  <a:pathLst>
                    <a:path w="114" h="98">
                      <a:moveTo>
                        <a:pt x="0" y="50"/>
                      </a:moveTo>
                      <a:lnTo>
                        <a:pt x="29" y="98"/>
                      </a:lnTo>
                      <a:lnTo>
                        <a:pt x="114" y="0"/>
                      </a:lnTo>
                      <a:lnTo>
                        <a:pt x="29" y="74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78120" y="4335480"/>
                  <a:ext cx="387000" cy="371520"/>
                </a:xfrm>
                <a:custGeom>
                  <a:avLst/>
                  <a:gdLst/>
                  <a:ahLst/>
                  <a:rect l="l" t="t" r="r" b="b"/>
                  <a:pathLst>
                    <a:path w="114" h="98">
                      <a:moveTo>
                        <a:pt x="0" y="48"/>
                      </a:moveTo>
                      <a:lnTo>
                        <a:pt x="29" y="98"/>
                      </a:lnTo>
                      <a:lnTo>
                        <a:pt x="114" y="0"/>
                      </a:lnTo>
                      <a:lnTo>
                        <a:pt x="29" y="74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noFill/>
                <a:ln w="4680">
                  <a:solidFill>
                    <a:srgbClr val="020a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5475240" y="4332240"/>
                <a:ext cx="410760" cy="397800"/>
                <a:chOff x="5475240" y="4332240"/>
                <a:chExt cx="410760" cy="39780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5488920" y="4346640"/>
                  <a:ext cx="397080" cy="383400"/>
                </a:xfrm>
                <a:custGeom>
                  <a:avLst/>
                  <a:gdLst/>
                  <a:ahLst/>
                  <a:rect l="l" t="t" r="r" b="b"/>
                  <a:pathLst>
                    <a:path w="117" h="101">
                      <a:moveTo>
                        <a:pt x="0" y="52"/>
                      </a:moveTo>
                      <a:lnTo>
                        <a:pt x="29" y="101"/>
                      </a:lnTo>
                      <a:lnTo>
                        <a:pt x="117" y="0"/>
                      </a:lnTo>
                      <a:lnTo>
                        <a:pt x="29" y="76"/>
                      </a:lnTo>
                      <a:lnTo>
                        <a:pt x="0" y="5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5475240" y="4332240"/>
                  <a:ext cx="393120" cy="379080"/>
                </a:xfrm>
                <a:custGeom>
                  <a:avLst/>
                  <a:gdLst/>
                  <a:ahLst/>
                  <a:rect l="l" t="t" r="r" b="b"/>
                  <a:pathLst>
                    <a:path w="116" h="100">
                      <a:moveTo>
                        <a:pt x="0" y="49"/>
                      </a:moveTo>
                      <a:lnTo>
                        <a:pt x="28" y="100"/>
                      </a:lnTo>
                      <a:lnTo>
                        <a:pt x="116" y="0"/>
                      </a:lnTo>
                      <a:lnTo>
                        <a:pt x="28" y="75"/>
                      </a:lnTo>
                      <a:lnTo>
                        <a:pt x="0" y="49"/>
                      </a:lnTo>
                      <a:close/>
                    </a:path>
                  </a:pathLst>
                </a:custGeom>
                <a:noFill/>
                <a:ln w="4680">
                  <a:solidFill>
                    <a:srgbClr val="020a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759840" y="1160280"/>
            <a:ext cx="575280" cy="35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7397272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7397272"/>
              </a:path>
            </a:pathLst>
          </a:custGeom>
          <a:noFill/>
          <a:ln w="4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523600" y="3316320"/>
            <a:ext cx="137232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Coll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timet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24680" y="4295880"/>
            <a:ext cx="82368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B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per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007880" y="4672080"/>
            <a:ext cx="82368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072960" y="5918040"/>
            <a:ext cx="1372320" cy="6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Hav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upd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timet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70360" y="5924520"/>
            <a:ext cx="96084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Coll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th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146720" y="3983040"/>
            <a:ext cx="109800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Cho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sche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62200" y="4873680"/>
            <a:ext cx="10980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Manu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343200" y="5467320"/>
            <a:ext cx="17838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Automatic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rot="16200000">
            <a:off x="1690560" y="5047560"/>
            <a:ext cx="198360" cy="503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300" y="1256"/>
                  <a:pt x="7000" y="5080"/>
                  <a:pt x="7000" y="10800"/>
                </a:cubicBezTo>
                <a:cubicBezTo>
                  <a:pt x="7000" y="16520"/>
                  <a:pt x="14300" y="2034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2871000" y="4011840"/>
            <a:ext cx="198360" cy="50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300" y="1256"/>
                  <a:pt x="7000" y="5080"/>
                  <a:pt x="7000" y="10800"/>
                </a:cubicBezTo>
                <a:cubicBezTo>
                  <a:pt x="7000" y="16520"/>
                  <a:pt x="14300" y="2034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195720" y="4982040"/>
            <a:ext cx="780840" cy="35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181" y="17611"/>
                </a:moveTo>
                <a:arcTo wR="10800" hR="10800" stAng="2345945" swAng="3109948"/>
                <a:lnTo>
                  <a:pt x="10800" y="10800"/>
                </a:lnTo>
                <a:close/>
              </a:path>
              <a:path fill="none" w="21600" h="21600">
                <a:moveTo>
                  <a:pt x="19181" y="17611"/>
                </a:moveTo>
                <a:arcTo wR="10800" hR="10800" stAng="2345945" swAng="3109948"/>
              </a:path>
            </a:pathLst>
          </a:custGeom>
          <a:noFill/>
          <a:ln w="4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570720" y="2497680"/>
            <a:ext cx="575280" cy="362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70" y="9989"/>
                </a:moveTo>
                <a:arcTo wR="10800" hR="10800" stAng="-258364" swAng="7655636"/>
                <a:lnTo>
                  <a:pt x="10800" y="10800"/>
                </a:lnTo>
                <a:close/>
              </a:path>
              <a:path fill="none" w="21600" h="21600">
                <a:moveTo>
                  <a:pt x="21570" y="9989"/>
                </a:moveTo>
                <a:arcTo wR="10800" hR="10800" stAng="-258364" swAng="7655636"/>
              </a:path>
            </a:pathLst>
          </a:custGeom>
          <a:noFill/>
          <a:ln w="4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231920" y="2330280"/>
            <a:ext cx="979560" cy="549360"/>
          </a:xfrm>
          <a:prstGeom prst="cloudCallout">
            <a:avLst>
              <a:gd name="adj1" fmla="val -25694"/>
              <a:gd name="adj2" fmla="val 45138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395360" y="1052640"/>
            <a:ext cx="979560" cy="547560"/>
          </a:xfrm>
          <a:prstGeom prst="cloudCallout">
            <a:avLst>
              <a:gd name="adj1" fmla="val -25694"/>
              <a:gd name="adj2" fmla="val 45138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11480" y="1782720"/>
            <a:ext cx="981000" cy="547560"/>
          </a:xfrm>
          <a:prstGeom prst="cloudCallout">
            <a:avLst>
              <a:gd name="adj1" fmla="val -25694"/>
              <a:gd name="adj2" fmla="val 45138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814400" y="1836720"/>
            <a:ext cx="1273680" cy="438840"/>
            <a:chOff x="1814400" y="1836720"/>
            <a:chExt cx="1273680" cy="438840"/>
          </a:xfrm>
        </p:grpSpPr>
        <p:sp>
          <p:nvSpPr>
            <p:cNvPr id="251" name=""/>
            <p:cNvSpPr/>
            <p:nvPr/>
          </p:nvSpPr>
          <p:spPr>
            <a:xfrm>
              <a:off x="1990080" y="1836720"/>
              <a:ext cx="109800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Courier New"/>
                </a:rPr>
                <a:t>Match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Courier New"/>
                </a:rPr>
                <a:t>eff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814400" y="2048400"/>
              <a:ext cx="360" cy="21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2808360" y="2155680"/>
            <a:ext cx="2823120" cy="2510640"/>
            <a:chOff x="2808360" y="2155680"/>
            <a:chExt cx="2823120" cy="2510640"/>
          </a:xfrm>
        </p:grpSpPr>
        <p:sp>
          <p:nvSpPr>
            <p:cNvPr id="254" name=""/>
            <p:cNvSpPr/>
            <p:nvPr/>
          </p:nvSpPr>
          <p:spPr>
            <a:xfrm>
              <a:off x="2808360" y="2155680"/>
              <a:ext cx="207360" cy="209520"/>
            </a:xfrm>
            <a:custGeom>
              <a:avLst/>
              <a:gdLst/>
              <a:ahLst/>
              <a:rect l="l" t="t" r="r" b="b"/>
              <a:pathLst>
                <a:path w="61" h="55">
                  <a:moveTo>
                    <a:pt x="0" y="0"/>
                  </a:moveTo>
                  <a:lnTo>
                    <a:pt x="61" y="18"/>
                  </a:lnTo>
                  <a:lnTo>
                    <a:pt x="30" y="23"/>
                  </a:lnTo>
                  <a:lnTo>
                    <a:pt x="33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 flipV="1">
              <a:off x="2909880" y="2243160"/>
              <a:ext cx="2721600" cy="2423160"/>
            </a:xfrm>
            <a:prstGeom prst="line">
              <a:avLst/>
            </a:prstGeom>
            <a:ln w="4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2871720" y="2084400"/>
            <a:ext cx="4277160" cy="3050280"/>
            <a:chOff x="2871720" y="2084400"/>
            <a:chExt cx="4277160" cy="3050280"/>
          </a:xfrm>
        </p:grpSpPr>
        <p:sp>
          <p:nvSpPr>
            <p:cNvPr id="257" name=""/>
            <p:cNvSpPr/>
            <p:nvPr/>
          </p:nvSpPr>
          <p:spPr>
            <a:xfrm>
              <a:off x="2871720" y="2084400"/>
              <a:ext cx="197280" cy="181800"/>
            </a:xfrm>
            <a:custGeom>
              <a:avLst/>
              <a:gdLst/>
              <a:ahLst/>
              <a:rect l="l" t="t" r="r" b="b"/>
              <a:pathLst>
                <a:path w="58" h="48">
                  <a:moveTo>
                    <a:pt x="0" y="0"/>
                  </a:moveTo>
                  <a:lnTo>
                    <a:pt x="58" y="13"/>
                  </a:lnTo>
                  <a:lnTo>
                    <a:pt x="32" y="18"/>
                  </a:lnTo>
                  <a:lnTo>
                    <a:pt x="37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 flipV="1">
              <a:off x="2986920" y="2152440"/>
              <a:ext cx="4161960" cy="2982240"/>
            </a:xfrm>
            <a:prstGeom prst="line">
              <a:avLst/>
            </a:prstGeom>
            <a:ln w="4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0" y="2000160"/>
            <a:ext cx="1626840" cy="438840"/>
            <a:chOff x="0" y="2000160"/>
            <a:chExt cx="1626840" cy="438840"/>
          </a:xfrm>
        </p:grpSpPr>
        <p:sp>
          <p:nvSpPr>
            <p:cNvPr id="260" name=""/>
            <p:cNvSpPr/>
            <p:nvPr/>
          </p:nvSpPr>
          <p:spPr>
            <a:xfrm>
              <a:off x="254520" y="2000160"/>
              <a:ext cx="137232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Courier New"/>
                </a:rPr>
                <a:t>Colle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Courier New"/>
                </a:rPr>
                <a:t>eff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0" y="2208600"/>
              <a:ext cx="360" cy="21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3355920" y="1600200"/>
            <a:ext cx="979560" cy="547560"/>
          </a:xfrm>
          <a:prstGeom prst="cloudCallout">
            <a:avLst>
              <a:gd name="adj1" fmla="val -25694"/>
              <a:gd name="adj2" fmla="val 45138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5920" y="687240"/>
            <a:ext cx="979560" cy="547920"/>
          </a:xfrm>
          <a:prstGeom prst="cloudCallout">
            <a:avLst>
              <a:gd name="adj1" fmla="val -25694"/>
              <a:gd name="adj2" fmla="val 45138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498920" y="1235160"/>
            <a:ext cx="979560" cy="547560"/>
          </a:xfrm>
          <a:prstGeom prst="cloudCallout">
            <a:avLst>
              <a:gd name="adj1" fmla="val -25694"/>
              <a:gd name="adj2" fmla="val 45138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4008600" y="1943280"/>
            <a:ext cx="3129480" cy="3150000"/>
            <a:chOff x="4008600" y="1943280"/>
            <a:chExt cx="3129480" cy="3150000"/>
          </a:xfrm>
        </p:grpSpPr>
        <p:sp>
          <p:nvSpPr>
            <p:cNvPr id="266" name=""/>
            <p:cNvSpPr/>
            <p:nvPr/>
          </p:nvSpPr>
          <p:spPr>
            <a:xfrm flipH="1" flipV="1">
              <a:off x="4025160" y="1962000"/>
              <a:ext cx="3112920" cy="3131280"/>
            </a:xfrm>
            <a:prstGeom prst="line">
              <a:avLst/>
            </a:prstGeom>
            <a:ln w="4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008600" y="1943280"/>
              <a:ext cx="160200" cy="163080"/>
            </a:xfrm>
            <a:custGeom>
              <a:avLst/>
              <a:gdLst/>
              <a:ahLst/>
              <a:rect l="l" t="t" r="r" b="b"/>
              <a:pathLst>
                <a:path w="47" h="43">
                  <a:moveTo>
                    <a:pt x="0" y="0"/>
                  </a:moveTo>
                  <a:lnTo>
                    <a:pt x="28" y="43"/>
                  </a:lnTo>
                  <a:lnTo>
                    <a:pt x="47" y="2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46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025520" y="1962000"/>
              <a:ext cx="160200" cy="170640"/>
            </a:xfrm>
            <a:custGeom>
              <a:avLst/>
              <a:gdLst/>
              <a:ahLst/>
              <a:rect l="l" t="t" r="r" b="b"/>
              <a:pathLst>
                <a:path w="47" h="45">
                  <a:moveTo>
                    <a:pt x="0" y="0"/>
                  </a:moveTo>
                  <a:lnTo>
                    <a:pt x="27" y="45"/>
                  </a:lnTo>
                  <a:lnTo>
                    <a:pt x="47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3906720" y="1992240"/>
            <a:ext cx="1718280" cy="2648160"/>
            <a:chOff x="3906720" y="1992240"/>
            <a:chExt cx="1718280" cy="2648160"/>
          </a:xfrm>
        </p:grpSpPr>
        <p:sp>
          <p:nvSpPr>
            <p:cNvPr id="270" name=""/>
            <p:cNvSpPr/>
            <p:nvPr/>
          </p:nvSpPr>
          <p:spPr>
            <a:xfrm flipH="1" flipV="1">
              <a:off x="3923280" y="2010600"/>
              <a:ext cx="1701720" cy="2629800"/>
            </a:xfrm>
            <a:prstGeom prst="line">
              <a:avLst/>
            </a:prstGeom>
            <a:ln w="4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906720" y="1992240"/>
              <a:ext cx="135720" cy="182880"/>
            </a:xfrm>
            <a:custGeom>
              <a:avLst/>
              <a:gdLst/>
              <a:ahLst/>
              <a:rect l="l" t="t" r="r" b="b"/>
              <a:pathLst>
                <a:path w="40" h="48">
                  <a:moveTo>
                    <a:pt x="0" y="0"/>
                  </a:moveTo>
                  <a:lnTo>
                    <a:pt x="18" y="48"/>
                  </a:lnTo>
                  <a:lnTo>
                    <a:pt x="40" y="3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46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923640" y="2014560"/>
              <a:ext cx="139680" cy="186120"/>
            </a:xfrm>
            <a:custGeom>
              <a:avLst/>
              <a:gdLst/>
              <a:ahLst/>
              <a:rect l="l" t="t" r="r" b="b"/>
              <a:pathLst>
                <a:path w="41" h="49">
                  <a:moveTo>
                    <a:pt x="0" y="0"/>
                  </a:moveTo>
                  <a:lnTo>
                    <a:pt x="17" y="49"/>
                  </a:lnTo>
                  <a:lnTo>
                    <a:pt x="41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481120" y="1284120"/>
            <a:ext cx="1608480" cy="438840"/>
            <a:chOff x="2481120" y="1284120"/>
            <a:chExt cx="1608480" cy="438840"/>
          </a:xfrm>
        </p:grpSpPr>
        <p:sp>
          <p:nvSpPr>
            <p:cNvPr id="274" name=""/>
            <p:cNvSpPr/>
            <p:nvPr/>
          </p:nvSpPr>
          <p:spPr>
            <a:xfrm>
              <a:off x="2854440" y="1284120"/>
              <a:ext cx="123516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Courier New"/>
                </a:rPr>
                <a:t>Minim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Courier New"/>
                </a:rPr>
                <a:t>conflic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481120" y="1497240"/>
              <a:ext cx="360" cy="2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4947480" y="1055520"/>
            <a:ext cx="1783800" cy="438840"/>
            <a:chOff x="4947480" y="1055520"/>
            <a:chExt cx="1783800" cy="438840"/>
          </a:xfrm>
        </p:grpSpPr>
        <p:sp>
          <p:nvSpPr>
            <p:cNvPr id="277" name=""/>
            <p:cNvSpPr/>
            <p:nvPr/>
          </p:nvSpPr>
          <p:spPr>
            <a:xfrm>
              <a:off x="4947480" y="1055520"/>
              <a:ext cx="178380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Courier New"/>
                </a:rPr>
                <a:t>Degree o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Courier New"/>
                </a:rPr>
                <a:t>particip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81320" y="1261080"/>
              <a:ext cx="137880" cy="21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Courier Ne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2942640" y="507960"/>
            <a:ext cx="1372320" cy="438840"/>
            <a:chOff x="2942640" y="507960"/>
            <a:chExt cx="1372320" cy="438840"/>
          </a:xfrm>
        </p:grpSpPr>
        <p:sp>
          <p:nvSpPr>
            <p:cNvPr id="280" name=""/>
            <p:cNvSpPr/>
            <p:nvPr/>
          </p:nvSpPr>
          <p:spPr>
            <a:xfrm>
              <a:off x="2942640" y="507960"/>
              <a:ext cx="137232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Courier New"/>
                </a:rPr>
                <a:t>Quality o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Courier New"/>
                </a:rPr>
                <a:t>schedu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038760" y="716040"/>
              <a:ext cx="360" cy="21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1071720" y="812880"/>
            <a:ext cx="1374840" cy="438840"/>
            <a:chOff x="1071720" y="812880"/>
            <a:chExt cx="1374840" cy="438840"/>
          </a:xfrm>
        </p:grpSpPr>
        <p:sp>
          <p:nvSpPr>
            <p:cNvPr id="283" name=""/>
            <p:cNvSpPr/>
            <p:nvPr/>
          </p:nvSpPr>
          <p:spPr>
            <a:xfrm>
              <a:off x="1485720" y="812880"/>
              <a:ext cx="96084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Courier New"/>
                </a:rPr>
                <a:t>Minim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Courier New"/>
                </a:rPr>
                <a:t>eff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071720" y="1024920"/>
              <a:ext cx="360" cy="21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 rot="16200000">
            <a:off x="6657120" y="3940920"/>
            <a:ext cx="257040" cy="563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300" y="1256"/>
                  <a:pt x="7000" y="5080"/>
                  <a:pt x="7000" y="10800"/>
                </a:cubicBezTo>
                <a:cubicBezTo>
                  <a:pt x="7000" y="16520"/>
                  <a:pt x="14300" y="2034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6T22:02:27Z</dcterms:created>
  <dc:creator>Steve Easterbrook</dc:creator>
  <dc:description/>
  <dc:language>en-US</dc:language>
  <cp:lastModifiedBy>yudis-UNITN</cp:lastModifiedBy>
  <cp:lastPrinted>2004-09-14T03:14:35Z</cp:lastPrinted>
  <dcterms:modified xsi:type="dcterms:W3CDTF">2006-03-30T21:13:00Z</dcterms:modified>
  <cp:revision>44</cp:revision>
  <dc:subject/>
  <dc:title>PowerPoint Presentation</dc:title>
</cp:coreProperties>
</file>