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9928225" cy="6670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928800" cy="66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303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622480" y="0"/>
            <a:ext cx="4303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3300480" y="501120"/>
            <a:ext cx="3332160" cy="2498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37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6334200"/>
            <a:ext cx="4303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622480" y="6334200"/>
            <a:ext cx="43038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D76B-24D8-4F4E-8B14-41D97F979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3300480" y="501480"/>
            <a:ext cx="3332160" cy="2498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92160" y="3168720"/>
            <a:ext cx="794376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Importan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3EE1-BABB-495A-8528-B18939BC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D8EB-B024-45F8-95E2-14A506FD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4089-D958-4AF2-B0BB-81DC26EE5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5054-38BB-4EE3-8649-B2F0D50B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3458-B581-4AA6-8031-016EAC59B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8CD6-4571-40FD-80EC-A8D6B8339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9C8F-74B9-46CA-B1A4-5F3F05F61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270D-ECC0-4AA9-B3DC-FC064B72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412D-CB9E-4F15-94DD-D53DA83D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4C39A-D245-4E59-8A4C-619388093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E9B6-FD0F-43FC-9308-7E40A1EE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2B2C-7533-4C9A-AB47-F9BE8CC15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7A913-5732-44C9-854A-144763F3E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C6E5-2729-445C-8F95-3FB12867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6997A-80C8-4FC5-BC75-43BA849D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1F62-42B5-42AA-9F40-832009B5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561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BFBC-B641-4F0F-9EBC-4364BF061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BC36-0E18-48A1-9579-B0EF6C2D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57CF-60B5-44A3-95A1-0B6191F0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0B43-5063-454D-9E5F-90B54EE5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-27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C2AF-FB75-45F0-B523-C57CF04E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E2E8-8FB6-4737-B64C-28571E2C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561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4234-A7AA-4DC3-A415-C5F5A9EF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561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39F-F350-48A7-98F3-98A26731C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6EF76-EACD-439B-B697-A9D8E4A48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468360" cy="623736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84720" y="6032520"/>
            <a:ext cx="3059280" cy="8254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08000" y="6165720"/>
            <a:ext cx="1439640" cy="614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EF26-B3C7-40AD-8D6E-805464653F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1079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348240" y="98280"/>
            <a:ext cx="1895760" cy="80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050920" y="4680000"/>
            <a:ext cx="5113440" cy="217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Risk Modeling</a:t>
            </a:r>
            <a:endParaRPr b="0" lang="en-US" sz="4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2781000"/>
            <a:ext cx="64008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e Tropos Approach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hD Lunch Meeting 07/07/2005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Yudistira Asnar – yudis.asnar@dit.unitn.i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ing Impac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p-Level Goals are annotated with their importance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Im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, that define by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f-Goal has rank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, value that come form the function. It calculates order among all of th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ure modes are annotated with likelihood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, a.k.a probability, and severity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nks between failure modes and goals are annotated with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mpac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[-20,20] (e.g. Satisfaction redu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ing Impac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risk of a goal 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computed as Possibility of Loss (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= 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*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Σ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(S * L * |I|) ; I ≤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itigation Plans are chosen in order to reduce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L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, until acceptable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s acceptable i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L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≤ R</a:t>
            </a:r>
            <a:r>
              <a:rPr b="0" i="1" lang="en-GB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G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* SL * 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there is no mitigation plan for it, we can de-idealize (Confidence Level) of the least importance 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  <a:ea typeface="Arial"/>
              </a:rPr>
              <a:t>How much we can do de-idealiz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ng Importanc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ion Importance of Top-Level Goal (value: 1, 2, 3, etc., the bigger means more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Goals with the cheapest cost of satisfaction of top level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Rules:[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-Decomposition: AND(G1,G2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-Decomposition: OR(G1,G2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; 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[1,2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[1,2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needs more prec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gt; 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↔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 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in(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3 is sub goal of G1 and G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Max(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-G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Im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G3-G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Defining Rank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ilure Mo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Failure Mode contribute to Intermediate Goal, not just leaf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ilure modes can contribute not only to goals but to other failur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ilure Mode is traditionally represented as an isolated event, but in reality, there is interrelation among failure m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Mode proper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ity and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ilure Mo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ibution of F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, depends on the intrinsic risk of F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the weight of edge connecting F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o FM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ribution among FMs can be me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Likeli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ifying Seve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t of edge should represent b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ditional Fault Trees are incomplete and faults should be represented as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rap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mputing Risk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900520" y="960480"/>
          <a:ext cx="3759120" cy="14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00520" y="960480"/>
                    <a:ext cx="375912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Case Stud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 of Explosive User Added means increasing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kelihood of Limited Key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iginal Risk, R’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tributed Risk, R”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tigated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ailure Mode Identifica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oal has 2 dimension: Satisfy and Mai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ilure Mode of Goal (Negative-Go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desired 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omething that not suppose to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desired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-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’ = U –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9cc00"/>
                </a:solidFill>
                <a:latin typeface="Arial"/>
              </a:rPr>
              <a:t>What is the Universe? [??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Something that not suppose to be maintained[??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itigation Pla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igations are set of actions to reduce (Likelihood and Severity) of Failure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≤ Threshold Denial-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ity * Impact ≤ Threshold Satisfaction-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e mitigation action can reduce the one risk and can also increase the other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oosing plan with consid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verity Level of Ris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mitigation plan give the same effect to one particular failur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itigation Pla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tigations are annotated with Costs (C), Category (Transfer, Prevention, Detection, Retention, Alleviation,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e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between mitigation and failure mode is annotat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E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reduce/increase the ris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itigation Plan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And-Or De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Positive-Negative Contrib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itigation Plan contribute to Goal, instead of Failur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Mitigation Plan can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Introducing concept of time constrain to satisfy goal and to accomplish mit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Definition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ure: The inability of  a system or component to perform its required functions within specified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ilure mode: The physical or functional manifestation of a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 of Risk: Likelihood, but also effect of th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isk = Likelihood * Seve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ity: [0,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ihood: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itigation Plan Identifica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xperience and reposi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[?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-Writing Tre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12800"/>
          <a:ext cx="403848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12800"/>
                    <a:ext cx="403848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to satisfy G1 and G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1: G3,G4,G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: G3,G5,G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3: G3,G4,G9,G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4: G3,G5,G9,G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assic Approach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proach to Solv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ic: Top-Dow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ottom-Up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dju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Writing T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-Writing Tre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281240" y="1197000"/>
          <a:ext cx="239076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197000"/>
                    <a:ext cx="239076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457200" y="3770280"/>
          <a:ext cx="4038480" cy="17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70280"/>
                    <a:ext cx="4038480" cy="17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1: G3,G4,G8 + M1,M2,M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: G3,G5,G8 + M2,M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3: G3,G4,G9,G10 + M1,M2,M3,M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4: G3,G5,G9,G10 + M2,M3,M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e-Writing Tre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ll possible set goal solutions to satisfy top-level 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all Mitigation Plans that is reachable from set goal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(Cost, Confidence Level) all possible combination between set goal solutions and all subset of mitigation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Needs something to reduce the search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everity - Mitigation Pla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197000"/>
          <a:ext cx="8229600" cy="4824360"/>
        </p:xfrm>
        <a:graphic>
          <a:graphicData uri="http://schemas.openxmlformats.org/drawingml/2006/table">
            <a:tbl>
              <a:tblPr/>
              <a:tblGrid>
                <a:gridCol w="1738440"/>
                <a:gridCol w="6491160"/>
              </a:tblGrid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ver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Mitigation 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norab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v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viation, Transfer, Detection, Pre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ection, Transfer, Pre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fer, Prev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en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very Choice has the own consequenc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isk Modeling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9640" y="1125360"/>
          <a:ext cx="8180640" cy="473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125360"/>
                    <a:ext cx="8180640" cy="473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Goal Analysi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01480" y="1666800"/>
            <a:ext cx="817416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Objective of Risk Analysi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aditionall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the most effective and efficient set of mitigation plans such that the risk can be manageable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rategy of choosing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ing Quality of System (Reliability, Safety, Available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opos Approach: The evaluation of the best solution must be based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 traditional 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L Cost is the cost of achieving main goals and the cost of associated Mitig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means selecting subgoals taking into account their risks and the associated mitigation pl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 should optimize not only one of them, but both at the sam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99"/>
                </a:solidFill>
                <a:latin typeface="Arial"/>
              </a:rPr>
              <a:t>Basic Assump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lure Mode-Risk can be associated with Objective-As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opo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ask/Plan, Resou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 of Assets (Necessary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shold (Confidence Leve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ial Likelihood (DL) [0,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ion Level (SL) [0,10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Risk Analysis Scenario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reshold of each as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most efficient set of solutions, that can be acceptable for given threshold (satisfaction level and denial likelih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Budget for accomplish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set of solutions (Assets and Mitigation) with the highest satisfaction level and the least denial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does it cost for achieving the highest satisfaction and confide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ase Stud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2920" y="968400"/>
          <a:ext cx="7037280" cy="48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68400"/>
                    <a:ext cx="703728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09:13:32Z</dcterms:created>
  <dc:creator>Notebook</dc:creator>
  <dc:description/>
  <dc:language>en-US</dc:language>
  <cp:lastModifiedBy>yudis</cp:lastModifiedBy>
  <dcterms:modified xsi:type="dcterms:W3CDTF">2005-07-14T09:57:40Z</dcterms:modified>
  <cp:revision>236</cp:revision>
  <dc:subject/>
  <dc:title>Roles and Actors</dc:title>
</cp:coreProperties>
</file>