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9928225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9288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622480" y="0"/>
            <a:ext cx="4303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3300480" y="501120"/>
            <a:ext cx="3332160" cy="24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37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6334200"/>
            <a:ext cx="4303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5622480" y="6334200"/>
            <a:ext cx="4303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0DFB-126D-4D9D-9E62-81B25DD70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300480" y="501480"/>
            <a:ext cx="3332160" cy="2498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37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Importa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AE68-CAB8-4F8D-A398-3C482BCC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490-66E4-4084-9A77-4BAFF96A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6014-69FC-48E2-B877-22FA88C6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4C50-DC91-486A-9E4B-11568AD6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4CDF-7F5D-4BEA-B24A-5C3AD9CF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A33B-6BAD-4AB1-91A6-89EEC8B3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618B-B5B7-4AAA-827F-909B7221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5831-F15A-4AAF-BC74-E43C7B53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6D88-C565-4D13-8763-E888D03D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E966-51DC-43CD-997C-D9AFB7D7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57B5-1648-47F0-AC24-8E6647B7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687-FA83-4489-A639-AE6EFE14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EDE4-1562-4A41-92D1-6181C8FA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EC66-06C4-4E1E-9344-AEE81375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7DC9-1404-4281-BA89-241A3691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376C-037F-44B6-B495-034471EC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8329-9913-47CB-8E0F-C507074F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3CD-54B0-4A38-AE48-CF14A91B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FD5-C9BE-4D65-841A-300670DB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6D7-6F5F-457E-8366-3A956F0B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9E5-4431-4D5E-99E3-89B1FDF4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35C-D34B-4E27-A70D-36735702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19D-6FC5-49AF-95F4-A6AF8AE2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475-C68E-4ADB-8169-933F788B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571C-67C4-488C-A366-797A364FF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468360" cy="6237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084720" y="6032520"/>
            <a:ext cx="3059280" cy="8254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08000" y="6165720"/>
            <a:ext cx="143964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D467-94BC-4100-AB8D-3B94820DB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107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48240" y="98280"/>
            <a:ext cx="189576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050920" y="4680000"/>
            <a:ext cx="5113440" cy="217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Risk Modeling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Tropos Approac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hD Lunch Meeting 07/07/2005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udistira Asnar – yudis.asnar@dit.unitn.i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uting Impac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p-Level Goals are annotated with their importance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, that define by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f-Goal has rank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, value that come form the function. It calculates order among all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lure modes are annotated with likelihood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, a.k.a probability, and severity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between failure modes and goals are annotated with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mpa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[-20,20] (e.g. Satisfaction redu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uting Impac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isk of a goal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omputed as Possibility of Loss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Σ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(S * L * |I|) ; I ≤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itigation Plans are chosen in order to reduc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L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, until acceptabl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acceptable 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≤ R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* SL * 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f there is no mitigation plan for it, we can de-idealize (Confidence Level) of the least importanc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  <a:ea typeface="Arial"/>
              </a:rPr>
              <a:t>How much we can do de-ideal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fining Importanc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ion Importance of Top-Level Goal (value: 1, 2, 3, etc., the bigger means more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Goals with the cheapest cost of satisfaction of top level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Rules:[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-Decomposition: AND(G1,G2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Cos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-Decomposition: OR(G1,G2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; 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[1,2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[1,2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needs more pre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Cos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in(Cos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3 is sub goal of G1 and G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ax(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3-G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3-G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fining Rank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ailure Mo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Failure Mode contribute to Intermediate Goal, not just leaf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ilure modes can contribute not only to goals but to other failure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ilure Mode is traditionally represented as an isolated event, but in reality, there is interrelation among failure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Mod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ity and 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ailure Mo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ribution of FM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M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depends on the intrinsic risk of FM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the weight of edge connecting FM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M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ribution among FMs can be me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ying 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ying Sev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 of edge should represent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itional Fault Trees are incomplete and faults should be represented a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uting Risk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900520" y="960480"/>
          <a:ext cx="375912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0520" y="960480"/>
                    <a:ext cx="375912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Case Stu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 of Explosive User Added means increa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kelihood of Limited Key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iginal Risk, R’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ributed Risk, R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tigate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ailure Mode Identificat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al has 2 dimension: Satisfy and Mai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lure Mode of Goal (Negative-Go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sired 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hing that not suppose to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sired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-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’ = U –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4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00"/>
                </a:solidFill>
                <a:latin typeface="Arial"/>
              </a:rPr>
              <a:t>What is the Universe? [??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Something that not suppose to be maintained[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itigation Pla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igations are set of actions to reduce (Likelihood and Severity) of Failure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Threshold Denial-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verity * Impact ≤ Threshold Satisfaction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e mitigation action can reduce the one risk and can also increase the other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oosing plan with consi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verity Level of Ri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itigation plan give the same effect to one particular failur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itigation Pla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igations are annotated with Costs (C), Category (Transfer, Prevention, Detection, Retention, Alleviation,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between mitigation and failure mode is annotat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E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reduce/increase the ris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itigation Pla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And-Or De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Positive-Negative Contrib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itigation Plan contribute to Goal, instead of Failur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itigation Plan can 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Introducing concept of time constrain to satisfy goal and to accomplish mi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fini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lure: The inability of  a system or component to perform its required functions within specifie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lure mode: The physical or functional manifestation of a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 of Risk: Likelihood, but also effect of th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= Likelihood * Sev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ity: [0,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: [0,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itigation Plan Identificat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xperience and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[??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-Writing Tre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612800"/>
          <a:ext cx="403848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2800"/>
                    <a:ext cx="403848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to satisfy G1 and G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: G3,G4,G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: G3,G5,G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: G3,G4,G9,G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4: G3,G5,G9,G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assic Approach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pproach to Solv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: Top-Dow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ttom-U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ju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Writing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-Writing Tre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281240" y="1197000"/>
          <a:ext cx="239076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1197000"/>
                    <a:ext cx="23907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57200" y="3770280"/>
          <a:ext cx="4038480" cy="17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770280"/>
                    <a:ext cx="403848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: G3,G4,G8 + M1,M2,M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: G3,G5,G8 + M2,M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3: G3,G4,G9,G10 + M1,M2,M3,M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4: G3,G5,G9,G10 + M2,M3,M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-Writing Tre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ll possible set goal solutions to satisfy top-level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ll Mitigation Plans that is reachable from set go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(Cost, Confidence Level) all possible combination between set goal solutions and all subset of mitigati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Needs something to reduce the search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verity - Mitigation Pla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197000"/>
          <a:ext cx="8229600" cy="4824360"/>
        </p:xfrm>
        <a:graphic>
          <a:graphicData uri="http://schemas.openxmlformats.org/drawingml/2006/table">
            <a:tbl>
              <a:tblPr/>
              <a:tblGrid>
                <a:gridCol w="1738440"/>
                <a:gridCol w="649116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Mitigation 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or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vi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viation, Transfer, Detection, Prev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ion, Transfer, Prev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, Prev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very Choice has the own consequen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isk Modeling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9640" y="1125360"/>
          <a:ext cx="818064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25360"/>
                    <a:ext cx="818064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oal Analysi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1480" y="1666800"/>
            <a:ext cx="817416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Objective of Risk Analysi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dition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the most effective and efficient set of mitigation plans such that the risk can be manageable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rategy of choosing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Quality of System (Reliability, Safety, Available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s Approach: The evaluation of the best solution must be base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 traditional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L Cost is the cost of achieving main goals and the cost of associated Mitiga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eans selecting subgoals taking into account their risks and the associated mitiga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should optimize not only one of them, but both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Basic Assumpt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Mode-Risk can be associated with Objective-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po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sk/Plan,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 of Assets (Necessary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 (Confidence Level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ial Likelihood (DL) [0,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isfaction Level (SL) [0,1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isk Analysis Scenario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reshold of each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most efficient set of solutions, that can be acceptable for given threshold (satisfaction level and denial likelih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Budget for accompl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set of solutions (Assets and Mitigation) with the highest satisfaction level and the least denial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does it cost for achieving the highest satisfaction and confidenc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ase Stud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42920" y="968400"/>
          <a:ext cx="703728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68400"/>
                    <a:ext cx="703728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09:13:32Z</dcterms:created>
  <dc:creator>Notebook</dc:creator>
  <dc:description/>
  <dc:language>en-US</dc:language>
  <cp:lastModifiedBy>yudis</cp:lastModifiedBy>
  <dcterms:modified xsi:type="dcterms:W3CDTF">2005-07-14T09:57:40Z</dcterms:modified>
  <cp:revision>236</cp:revision>
  <dc:subject/>
  <dc:title>Roles and Actors</dc:title>
</cp:coreProperties>
</file>