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0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429D-9EAF-4BB0-B3DF-62E7F7A69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, Agent Speak (L), and Jadex, J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06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60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06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60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5080" y="457200"/>
            <a:ext cx="8686800" cy="609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1500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15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spcBef>
                <a:spcPts val="15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4327560" y="228600"/>
            <a:ext cx="4587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4fa7"/>
                </a:solidFill>
                <a:latin typeface="Comic Sans MS"/>
              </a:rPr>
              <a:t>Dept of Information and Communication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2685960" cy="88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6859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236160" y="6544800"/>
            <a:ext cx="213372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838840" y="6535440"/>
            <a:ext cx="251928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119080" y="65530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FFBF-D4D5-4E34-8604-003E98269D8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5080" y="457200"/>
            <a:ext cx="8686800" cy="609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2685960" cy="88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6859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4327560" y="228600"/>
            <a:ext cx="4587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4fa7"/>
                </a:solidFill>
                <a:latin typeface="Comic Sans MS"/>
              </a:rPr>
              <a:t>Dept of Information and Communication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A Risk-Driven Approach 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for Goal Deliberation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3436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Yudistira Asn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aolo Giorgini, Nicola Zann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GR Reasoning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alternative solu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.g., A set of leaf goal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plans to achieve each altern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.g., a set of plans to achieve leaf goal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ess the risk (also cost) of each altern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e risk (also)is unacceptab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troduce treatments as part of alternative solu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ack to (3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dd alternative (+treatment) as a solu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78280" y="1341360"/>
          <a:ext cx="392760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8280" y="1341360"/>
                    <a:ext cx="392760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191280" y="2738520"/>
            <a:ext cx="277920" cy="152280"/>
          </a:xfrm>
          <a:custGeom>
            <a:avLst/>
            <a:gdLst/>
            <a:ahLst/>
            <a:rect l="l" t="t" r="r" b="b"/>
            <a:pathLst>
              <a:path w="772" h="423">
                <a:moveTo>
                  <a:pt x="17202" y="7678"/>
                </a:moveTo>
                <a:cubicBezTo>
                  <a:pt x="17202" y="7678"/>
                  <a:pt x="17198" y="7677"/>
                  <a:pt x="17197" y="7674"/>
                </a:cubicBezTo>
                <a:cubicBezTo>
                  <a:pt x="17196" y="7669"/>
                  <a:pt x="17196" y="7671"/>
                  <a:pt x="17197" y="7666"/>
                </a:cubicBezTo>
                <a:cubicBezTo>
                  <a:pt x="17197" y="7665"/>
                  <a:pt x="17198" y="7666"/>
                  <a:pt x="17199" y="7663"/>
                </a:cubicBezTo>
                <a:cubicBezTo>
                  <a:pt x="17200" y="7663"/>
                  <a:pt x="17201" y="7663"/>
                  <a:pt x="17202" y="7663"/>
                </a:cubicBezTo>
                <a:cubicBezTo>
                  <a:pt x="17205" y="7667"/>
                  <a:pt x="17205" y="7668"/>
                  <a:pt x="17208" y="7672"/>
                </a:cubicBezTo>
                <a:cubicBezTo>
                  <a:pt x="17225" y="7696"/>
                  <a:pt x="17241" y="7720"/>
                  <a:pt x="17257" y="7745"/>
                </a:cubicBezTo>
                <a:cubicBezTo>
                  <a:pt x="17296" y="7808"/>
                  <a:pt x="17335" y="7871"/>
                  <a:pt x="17374" y="7934"/>
                </a:cubicBezTo>
                <a:cubicBezTo>
                  <a:pt x="17383" y="7949"/>
                  <a:pt x="17394" y="7965"/>
                  <a:pt x="17403" y="7980"/>
                </a:cubicBezTo>
                <a:cubicBezTo>
                  <a:pt x="17406" y="7986"/>
                  <a:pt x="17409" y="7992"/>
                  <a:pt x="17412" y="7998"/>
                </a:cubicBezTo>
                <a:cubicBezTo>
                  <a:pt x="17414" y="8001"/>
                  <a:pt x="17415" y="8004"/>
                  <a:pt x="17417" y="8007"/>
                </a:cubicBezTo>
                <a:cubicBezTo>
                  <a:pt x="17419" y="8010"/>
                  <a:pt x="17417" y="8006"/>
                  <a:pt x="17418" y="8009"/>
                </a:cubicBezTo>
                <a:cubicBezTo>
                  <a:pt x="17419" y="8010"/>
                  <a:pt x="17423" y="8015"/>
                  <a:pt x="17424" y="8018"/>
                </a:cubicBezTo>
                <a:cubicBezTo>
                  <a:pt x="17427" y="8023"/>
                  <a:pt x="17427" y="8027"/>
                  <a:pt x="17429" y="8030"/>
                </a:cubicBezTo>
                <a:cubicBezTo>
                  <a:pt x="17429" y="8030"/>
                  <a:pt x="17430" y="8029"/>
                  <a:pt x="17430" y="8029"/>
                </a:cubicBezTo>
                <a:cubicBezTo>
                  <a:pt x="17432" y="8027"/>
                  <a:pt x="17433" y="8028"/>
                  <a:pt x="17435" y="8026"/>
                </a:cubicBezTo>
                <a:cubicBezTo>
                  <a:pt x="17439" y="8020"/>
                  <a:pt x="17446" y="8011"/>
                  <a:pt x="17450" y="8004"/>
                </a:cubicBezTo>
                <a:cubicBezTo>
                  <a:pt x="17462" y="7985"/>
                  <a:pt x="17466" y="7967"/>
                  <a:pt x="17479" y="7948"/>
                </a:cubicBezTo>
                <a:cubicBezTo>
                  <a:pt x="17503" y="7914"/>
                  <a:pt x="17534" y="7885"/>
                  <a:pt x="17567" y="7860"/>
                </a:cubicBezTo>
                <a:cubicBezTo>
                  <a:pt x="17646" y="7799"/>
                  <a:pt x="17740" y="7761"/>
                  <a:pt x="17825" y="7709"/>
                </a:cubicBezTo>
                <a:cubicBezTo>
                  <a:pt x="17846" y="7696"/>
                  <a:pt x="17872" y="7678"/>
                  <a:pt x="17890" y="7662"/>
                </a:cubicBezTo>
                <a:cubicBezTo>
                  <a:pt x="17897" y="7655"/>
                  <a:pt x="17897" y="7650"/>
                  <a:pt x="17903" y="7645"/>
                </a:cubicBezTo>
                <a:cubicBezTo>
                  <a:pt x="17906" y="7643"/>
                  <a:pt x="17905" y="7642"/>
                  <a:pt x="17909" y="7640"/>
                </a:cubicBezTo>
                <a:cubicBezTo>
                  <a:pt x="17914" y="7638"/>
                  <a:pt x="17918" y="7639"/>
                  <a:pt x="17924" y="7637"/>
                </a:cubicBezTo>
                <a:cubicBezTo>
                  <a:pt x="17943" y="7630"/>
                  <a:pt x="17951" y="7623"/>
                  <a:pt x="17967" y="7608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5160" y="2819520"/>
            <a:ext cx="237960" cy="234720"/>
          </a:xfrm>
          <a:custGeom>
            <a:avLst/>
            <a:gdLst/>
            <a:ahLst/>
            <a:rect l="l" t="t" r="r" b="b"/>
            <a:pathLst>
              <a:path w="661" h="654">
                <a:moveTo>
                  <a:pt x="19684" y="8058"/>
                </a:moveTo>
                <a:cubicBezTo>
                  <a:pt x="19684" y="8047"/>
                  <a:pt x="19683" y="8037"/>
                  <a:pt x="19684" y="8026"/>
                </a:cubicBezTo>
                <a:cubicBezTo>
                  <a:pt x="19684" y="8022"/>
                  <a:pt x="19685" y="8021"/>
                  <a:pt x="19685" y="8018"/>
                </a:cubicBezTo>
                <a:cubicBezTo>
                  <a:pt x="19689" y="8021"/>
                  <a:pt x="19694" y="8023"/>
                  <a:pt x="19699" y="8026"/>
                </a:cubicBezTo>
                <a:cubicBezTo>
                  <a:pt x="19709" y="8032"/>
                  <a:pt x="19717" y="8036"/>
                  <a:pt x="19725" y="8044"/>
                </a:cubicBezTo>
                <a:cubicBezTo>
                  <a:pt x="19761" y="8078"/>
                  <a:pt x="19783" y="8135"/>
                  <a:pt x="19807" y="8178"/>
                </a:cubicBezTo>
                <a:cubicBezTo>
                  <a:pt x="19852" y="8258"/>
                  <a:pt x="19902" y="8339"/>
                  <a:pt x="19959" y="8411"/>
                </a:cubicBezTo>
                <a:cubicBezTo>
                  <a:pt x="19975" y="8431"/>
                  <a:pt x="19997" y="8464"/>
                  <a:pt x="20019" y="8478"/>
                </a:cubicBezTo>
                <a:cubicBezTo>
                  <a:pt x="20025" y="8482"/>
                  <a:pt x="20033" y="8480"/>
                  <a:pt x="20035" y="8481"/>
                </a:cubicBezTo>
                <a:cubicBezTo>
                  <a:pt x="20033" y="8469"/>
                  <a:pt x="20031" y="8457"/>
                  <a:pt x="20029" y="8445"/>
                </a:cubicBezTo>
                <a:cubicBezTo>
                  <a:pt x="20028" y="8436"/>
                  <a:pt x="20027" y="8429"/>
                  <a:pt x="20026" y="8420"/>
                </a:cubicBezTo>
                <a:cubicBezTo>
                  <a:pt x="20025" y="8409"/>
                  <a:pt x="20025" y="8399"/>
                  <a:pt x="20025" y="8388"/>
                </a:cubicBezTo>
                <a:cubicBezTo>
                  <a:pt x="20025" y="8369"/>
                  <a:pt x="20025" y="8348"/>
                  <a:pt x="20028" y="8330"/>
                </a:cubicBezTo>
                <a:cubicBezTo>
                  <a:pt x="20034" y="8295"/>
                  <a:pt x="20046" y="8263"/>
                  <a:pt x="20058" y="8231"/>
                </a:cubicBezTo>
                <a:cubicBezTo>
                  <a:pt x="20093" y="8138"/>
                  <a:pt x="20149" y="8061"/>
                  <a:pt x="20209" y="7983"/>
                </a:cubicBezTo>
                <a:cubicBezTo>
                  <a:pt x="20242" y="7940"/>
                  <a:pt x="20278" y="7900"/>
                  <a:pt x="20314" y="7860"/>
                </a:cubicBezTo>
                <a:cubicBezTo>
                  <a:pt x="20321" y="7852"/>
                  <a:pt x="20336" y="7838"/>
                  <a:pt x="20342" y="7832"/>
                </a:cubicBezTo>
                <a:cubicBezTo>
                  <a:pt x="20340" y="7836"/>
                  <a:pt x="20339" y="7842"/>
                  <a:pt x="20336" y="7846"/>
                </a:cubicBezTo>
                <a:cubicBezTo>
                  <a:pt x="20335" y="7848"/>
                  <a:pt x="20334" y="7846"/>
                  <a:pt x="20333" y="7848"/>
                </a:cubicBezTo>
                <a:cubicBezTo>
                  <a:pt x="20333" y="7849"/>
                  <a:pt x="20331" y="7850"/>
                  <a:pt x="20330" y="7851"/>
                </a:cubicBezTo>
                <a:cubicBezTo>
                  <a:pt x="20326" y="7858"/>
                  <a:pt x="20332" y="7842"/>
                  <a:pt x="20326" y="7861"/>
                </a:cubicBezTo>
                <a:cubicBezTo>
                  <a:pt x="20322" y="7874"/>
                  <a:pt x="20316" y="7892"/>
                  <a:pt x="20314" y="7908"/>
                </a:cubicBezTo>
                <a:cubicBezTo>
                  <a:pt x="20313" y="7916"/>
                  <a:pt x="20312" y="7925"/>
                  <a:pt x="20311" y="7933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62640" y="4219560"/>
            <a:ext cx="349200" cy="177840"/>
          </a:xfrm>
          <a:custGeom>
            <a:avLst/>
            <a:gdLst/>
            <a:ahLst/>
            <a:rect l="l" t="t" r="r" b="b"/>
            <a:pathLst>
              <a:path w="967" h="492">
                <a:moveTo>
                  <a:pt x="15188" y="11737"/>
                </a:moveTo>
                <a:cubicBezTo>
                  <a:pt x="15185" y="11734"/>
                  <a:pt x="15186" y="11735"/>
                  <a:pt x="15183" y="11732"/>
                </a:cubicBezTo>
                <a:cubicBezTo>
                  <a:pt x="15174" y="11722"/>
                  <a:pt x="15182" y="11730"/>
                  <a:pt x="15178" y="11726"/>
                </a:cubicBezTo>
                <a:cubicBezTo>
                  <a:pt x="15177" y="11725"/>
                  <a:pt x="15176" y="11724"/>
                  <a:pt x="15175" y="11723"/>
                </a:cubicBezTo>
                <a:cubicBezTo>
                  <a:pt x="15177" y="11726"/>
                  <a:pt x="15174" y="11724"/>
                  <a:pt x="15177" y="11728"/>
                </a:cubicBezTo>
                <a:cubicBezTo>
                  <a:pt x="15185" y="11739"/>
                  <a:pt x="15195" y="11749"/>
                  <a:pt x="15203" y="11761"/>
                </a:cubicBezTo>
                <a:cubicBezTo>
                  <a:pt x="15222" y="11790"/>
                  <a:pt x="15240" y="11820"/>
                  <a:pt x="15258" y="11850"/>
                </a:cubicBezTo>
                <a:cubicBezTo>
                  <a:pt x="15293" y="11907"/>
                  <a:pt x="15323" y="11968"/>
                  <a:pt x="15352" y="12029"/>
                </a:cubicBezTo>
                <a:cubicBezTo>
                  <a:pt x="15374" y="12076"/>
                  <a:pt x="15398" y="12122"/>
                  <a:pt x="15425" y="12166"/>
                </a:cubicBezTo>
                <a:cubicBezTo>
                  <a:pt x="15433" y="12179"/>
                  <a:pt x="15442" y="12188"/>
                  <a:pt x="15451" y="12200"/>
                </a:cubicBezTo>
                <a:cubicBezTo>
                  <a:pt x="15454" y="12204"/>
                  <a:pt x="15456" y="12208"/>
                  <a:pt x="15459" y="12212"/>
                </a:cubicBezTo>
                <a:cubicBezTo>
                  <a:pt x="15461" y="12208"/>
                  <a:pt x="15457" y="12219"/>
                  <a:pt x="15460" y="12211"/>
                </a:cubicBezTo>
                <a:cubicBezTo>
                  <a:pt x="15462" y="12205"/>
                  <a:pt x="15460" y="12206"/>
                  <a:pt x="15462" y="12200"/>
                </a:cubicBezTo>
                <a:cubicBezTo>
                  <a:pt x="15467" y="12188"/>
                  <a:pt x="15473" y="12179"/>
                  <a:pt x="15479" y="12168"/>
                </a:cubicBezTo>
                <a:cubicBezTo>
                  <a:pt x="15493" y="12142"/>
                  <a:pt x="15511" y="12127"/>
                  <a:pt x="15532" y="12106"/>
                </a:cubicBezTo>
                <a:cubicBezTo>
                  <a:pt x="15597" y="12040"/>
                  <a:pt x="15664" y="11982"/>
                  <a:pt x="15738" y="11927"/>
                </a:cubicBezTo>
                <a:cubicBezTo>
                  <a:pt x="15825" y="11862"/>
                  <a:pt x="15912" y="11815"/>
                  <a:pt x="16021" y="11804"/>
                </a:cubicBezTo>
                <a:cubicBezTo>
                  <a:pt x="16051" y="11801"/>
                  <a:pt x="16079" y="11803"/>
                  <a:pt x="16108" y="11805"/>
                </a:cubicBezTo>
                <a:cubicBezTo>
                  <a:pt x="16117" y="11806"/>
                  <a:pt x="16126" y="11806"/>
                  <a:pt x="16135" y="11807"/>
                </a:cubicBezTo>
                <a:cubicBezTo>
                  <a:pt x="16136" y="11802"/>
                  <a:pt x="16136" y="11809"/>
                  <a:pt x="16137" y="11804"/>
                </a:cubicBezTo>
                <a:cubicBezTo>
                  <a:pt x="16139" y="11795"/>
                  <a:pt x="16141" y="11803"/>
                  <a:pt x="16141" y="11793"/>
                </a:cubicBezTo>
                <a:cubicBezTo>
                  <a:pt x="16141" y="11782"/>
                  <a:pt x="16139" y="11772"/>
                  <a:pt x="16138" y="11761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81760" y="4140360"/>
            <a:ext cx="244440" cy="155520"/>
          </a:xfrm>
          <a:custGeom>
            <a:avLst/>
            <a:gdLst/>
            <a:ahLst/>
            <a:rect l="l" t="t" r="r" b="b"/>
            <a:pathLst>
              <a:path w="682" h="432">
                <a:moveTo>
                  <a:pt x="19120" y="11569"/>
                </a:moveTo>
                <a:cubicBezTo>
                  <a:pt x="19119" y="11562"/>
                  <a:pt x="19113" y="11554"/>
                  <a:pt x="19114" y="11546"/>
                </a:cubicBezTo>
                <a:cubicBezTo>
                  <a:pt x="19114" y="11542"/>
                  <a:pt x="19118" y="11546"/>
                  <a:pt x="19118" y="11542"/>
                </a:cubicBezTo>
                <a:cubicBezTo>
                  <a:pt x="19122" y="11550"/>
                  <a:pt x="19130" y="11562"/>
                  <a:pt x="19137" y="11571"/>
                </a:cubicBezTo>
                <a:cubicBezTo>
                  <a:pt x="19155" y="11597"/>
                  <a:pt x="19174" y="11623"/>
                  <a:pt x="19191" y="11649"/>
                </a:cubicBezTo>
                <a:cubicBezTo>
                  <a:pt x="19217" y="11688"/>
                  <a:pt x="19244" y="11727"/>
                  <a:pt x="19269" y="11767"/>
                </a:cubicBezTo>
                <a:cubicBezTo>
                  <a:pt x="19291" y="11802"/>
                  <a:pt x="19312" y="11839"/>
                  <a:pt x="19329" y="11877"/>
                </a:cubicBezTo>
                <a:cubicBezTo>
                  <a:pt x="19337" y="11894"/>
                  <a:pt x="19344" y="11912"/>
                  <a:pt x="19351" y="11929"/>
                </a:cubicBezTo>
                <a:cubicBezTo>
                  <a:pt x="19353" y="11931"/>
                  <a:pt x="19353" y="11931"/>
                  <a:pt x="19353" y="11933"/>
                </a:cubicBezTo>
                <a:cubicBezTo>
                  <a:pt x="19353" y="11932"/>
                  <a:pt x="19354" y="11931"/>
                  <a:pt x="19354" y="11929"/>
                </a:cubicBezTo>
                <a:cubicBezTo>
                  <a:pt x="19355" y="11916"/>
                  <a:pt x="19355" y="11904"/>
                  <a:pt x="19359" y="11892"/>
                </a:cubicBezTo>
                <a:cubicBezTo>
                  <a:pt x="19366" y="11872"/>
                  <a:pt x="19377" y="11846"/>
                  <a:pt x="19389" y="11828"/>
                </a:cubicBezTo>
                <a:cubicBezTo>
                  <a:pt x="19413" y="11792"/>
                  <a:pt x="19448" y="11760"/>
                  <a:pt x="19478" y="11729"/>
                </a:cubicBezTo>
                <a:cubicBezTo>
                  <a:pt x="19519" y="11687"/>
                  <a:pt x="19561" y="11651"/>
                  <a:pt x="19607" y="11615"/>
                </a:cubicBezTo>
                <a:cubicBezTo>
                  <a:pt x="19645" y="11585"/>
                  <a:pt x="19683" y="11558"/>
                  <a:pt x="19725" y="11533"/>
                </a:cubicBezTo>
                <a:cubicBezTo>
                  <a:pt x="19742" y="11523"/>
                  <a:pt x="19764" y="11519"/>
                  <a:pt x="19780" y="11507"/>
                </a:cubicBezTo>
                <a:cubicBezTo>
                  <a:pt x="19786" y="11503"/>
                  <a:pt x="19782" y="11507"/>
                  <a:pt x="19784" y="11505"/>
                </a:cubicBezTo>
                <a:cubicBezTo>
                  <a:pt x="19786" y="11503"/>
                  <a:pt x="19779" y="11504"/>
                  <a:pt x="19781" y="11502"/>
                </a:cubicBezTo>
                <a:cubicBezTo>
                  <a:pt x="19792" y="11511"/>
                  <a:pt x="19775" y="11504"/>
                  <a:pt x="19789" y="11510"/>
                </a:cubicBezTo>
                <a:cubicBezTo>
                  <a:pt x="19791" y="11510"/>
                  <a:pt x="19793" y="11510"/>
                  <a:pt x="19795" y="11510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51680" y="6130800"/>
            <a:ext cx="338040" cy="192240"/>
          </a:xfrm>
          <a:custGeom>
            <a:avLst/>
            <a:gdLst/>
            <a:ahLst/>
            <a:rect l="l" t="t" r="r" b="b"/>
            <a:pathLst>
              <a:path w="938" h="533">
                <a:moveTo>
                  <a:pt x="17103" y="17183"/>
                </a:moveTo>
                <a:cubicBezTo>
                  <a:pt x="17099" y="17179"/>
                  <a:pt x="17096" y="17176"/>
                  <a:pt x="17092" y="17172"/>
                </a:cubicBezTo>
                <a:cubicBezTo>
                  <a:pt x="17095" y="17174"/>
                  <a:pt x="17087" y="17170"/>
                  <a:pt x="17090" y="17172"/>
                </a:cubicBezTo>
                <a:cubicBezTo>
                  <a:pt x="17094" y="17175"/>
                  <a:pt x="17097" y="17176"/>
                  <a:pt x="17101" y="17179"/>
                </a:cubicBezTo>
                <a:cubicBezTo>
                  <a:pt x="17133" y="17202"/>
                  <a:pt x="17163" y="17230"/>
                  <a:pt x="17190" y="17258"/>
                </a:cubicBezTo>
                <a:cubicBezTo>
                  <a:pt x="17240" y="17310"/>
                  <a:pt x="17286" y="17366"/>
                  <a:pt x="17334" y="17419"/>
                </a:cubicBezTo>
                <a:cubicBezTo>
                  <a:pt x="17367" y="17455"/>
                  <a:pt x="17401" y="17489"/>
                  <a:pt x="17435" y="17524"/>
                </a:cubicBezTo>
                <a:cubicBezTo>
                  <a:pt x="17442" y="17532"/>
                  <a:pt x="17449" y="17540"/>
                  <a:pt x="17455" y="17549"/>
                </a:cubicBezTo>
                <a:cubicBezTo>
                  <a:pt x="17457" y="17552"/>
                  <a:pt x="17457" y="17558"/>
                  <a:pt x="17459" y="17561"/>
                </a:cubicBezTo>
                <a:cubicBezTo>
                  <a:pt x="17460" y="17559"/>
                  <a:pt x="17458" y="17563"/>
                  <a:pt x="17459" y="17561"/>
                </a:cubicBezTo>
                <a:cubicBezTo>
                  <a:pt x="17460" y="17560"/>
                  <a:pt x="17460" y="17555"/>
                  <a:pt x="17462" y="17553"/>
                </a:cubicBezTo>
                <a:cubicBezTo>
                  <a:pt x="17467" y="17548"/>
                  <a:pt x="17467" y="17547"/>
                  <a:pt x="17473" y="17541"/>
                </a:cubicBezTo>
                <a:cubicBezTo>
                  <a:pt x="17487" y="17526"/>
                  <a:pt x="17503" y="17513"/>
                  <a:pt x="17517" y="17497"/>
                </a:cubicBezTo>
                <a:cubicBezTo>
                  <a:pt x="17578" y="17426"/>
                  <a:pt x="17633" y="17350"/>
                  <a:pt x="17694" y="17278"/>
                </a:cubicBezTo>
                <a:cubicBezTo>
                  <a:pt x="17750" y="17212"/>
                  <a:pt x="17810" y="17152"/>
                  <a:pt x="17877" y="17098"/>
                </a:cubicBezTo>
                <a:cubicBezTo>
                  <a:pt x="17907" y="17074"/>
                  <a:pt x="17950" y="17035"/>
                  <a:pt x="17991" y="17031"/>
                </a:cubicBezTo>
                <a:cubicBezTo>
                  <a:pt x="18014" y="17029"/>
                  <a:pt x="18002" y="17037"/>
                  <a:pt x="18008" y="17046"/>
                </a:cubicBezTo>
                <a:cubicBezTo>
                  <a:pt x="18011" y="17050"/>
                  <a:pt x="18001" y="17058"/>
                  <a:pt x="18002" y="17060"/>
                </a:cubicBezTo>
                <a:cubicBezTo>
                  <a:pt x="18003" y="17059"/>
                  <a:pt x="18000" y="17057"/>
                  <a:pt x="18002" y="17057"/>
                </a:cubicBezTo>
                <a:cubicBezTo>
                  <a:pt x="17999" y="17053"/>
                  <a:pt x="18000" y="17053"/>
                  <a:pt x="18005" y="17058"/>
                </a:cubicBezTo>
                <a:cubicBezTo>
                  <a:pt x="18008" y="17053"/>
                  <a:pt x="18011" y="17046"/>
                  <a:pt x="18018" y="17037"/>
                </a:cubicBezTo>
                <a:cubicBezTo>
                  <a:pt x="18021" y="17034"/>
                  <a:pt x="18023" y="17032"/>
                  <a:pt x="18026" y="17029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Jadex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agent middleware platform and a reasoning eng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Middleware Platform – It is used JADE or DIET as host plat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ommon service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message passing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agent persistency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agent management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tandards – e. g. FIPA conform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ften assume simple task-based agent model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soning Eng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cus: rational agent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agent architectures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programming languages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ased on theories from other discipline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Philosophy (BDI)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Biology (subsumption)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6093000"/>
            <a:ext cx="360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king from Jan Sudeikiat’s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Jadex vs Tropos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of them ha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Belief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--------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eans-End relation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Goa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lan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35002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BUT</a:t>
            </a: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ropos vs Jadex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rop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 T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chieve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void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aintai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chieve a goa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-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efine means to achieve leaf goal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Jad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 T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chieve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aintai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Perform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Query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chieve a goa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igger subgoal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-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efine means to handle all goal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Jadex – Agent Architecture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760" y="1303200"/>
            <a:ext cx="8499240" cy="5166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43280" y="2924280"/>
            <a:ext cx="1059120" cy="698400"/>
          </a:xfrm>
          <a:prstGeom prst="wedgeRoundRectCallout">
            <a:avLst>
              <a:gd name="adj1" fmla="val 12217"/>
              <a:gd name="adj2" fmla="val 7500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on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-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95640" y="5734080"/>
            <a:ext cx="1058760" cy="698400"/>
          </a:xfrm>
          <a:prstGeom prst="wedgeRoundRectCallout">
            <a:avLst>
              <a:gd name="adj1" fmla="val -82532"/>
              <a:gd name="adj2" fmla="val -8477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-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6000" y="6093000"/>
            <a:ext cx="158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Pokhar 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19400" y="2679840"/>
            <a:ext cx="115920" cy="98280"/>
          </a:xfrm>
          <a:custGeom>
            <a:avLst/>
            <a:gdLst/>
            <a:ahLst/>
            <a:rect l="l" t="t" r="r" b="b"/>
            <a:pathLst>
              <a:path w="324" h="273">
                <a:moveTo>
                  <a:pt x="11286" y="7471"/>
                </a:moveTo>
                <a:cubicBezTo>
                  <a:pt x="11278" y="7464"/>
                  <a:pt x="11269" y="7456"/>
                  <a:pt x="11260" y="7450"/>
                </a:cubicBezTo>
                <a:cubicBezTo>
                  <a:pt x="11248" y="7442"/>
                  <a:pt x="11229" y="7444"/>
                  <a:pt x="11217" y="7450"/>
                </a:cubicBezTo>
                <a:cubicBezTo>
                  <a:pt x="11179" y="7469"/>
                  <a:pt x="11166" y="7518"/>
                  <a:pt x="11164" y="7557"/>
                </a:cubicBezTo>
                <a:cubicBezTo>
                  <a:pt x="11162" y="7593"/>
                  <a:pt x="11175" y="7631"/>
                  <a:pt x="11194" y="7662"/>
                </a:cubicBezTo>
                <a:cubicBezTo>
                  <a:pt x="11210" y="7688"/>
                  <a:pt x="11240" y="7709"/>
                  <a:pt x="11269" y="7715"/>
                </a:cubicBezTo>
                <a:cubicBezTo>
                  <a:pt x="11299" y="7721"/>
                  <a:pt x="11334" y="7712"/>
                  <a:pt x="11360" y="7697"/>
                </a:cubicBezTo>
                <a:cubicBezTo>
                  <a:pt x="11386" y="7682"/>
                  <a:pt x="11412" y="7656"/>
                  <a:pt x="11423" y="7628"/>
                </a:cubicBezTo>
                <a:cubicBezTo>
                  <a:pt x="11439" y="7587"/>
                  <a:pt x="11418" y="7539"/>
                  <a:pt x="11386" y="7512"/>
                </a:cubicBezTo>
                <a:cubicBezTo>
                  <a:pt x="11358" y="7488"/>
                  <a:pt x="11312" y="7472"/>
                  <a:pt x="11275" y="7483"/>
                </a:cubicBezTo>
                <a:cubicBezTo>
                  <a:pt x="11245" y="7492"/>
                  <a:pt x="11224" y="7516"/>
                  <a:pt x="11213" y="7544"/>
                </a:cubicBezTo>
                <a:cubicBezTo>
                  <a:pt x="11204" y="7568"/>
                  <a:pt x="11201" y="7598"/>
                  <a:pt x="11210" y="7622"/>
                </a:cubicBezTo>
                <a:cubicBezTo>
                  <a:pt x="11219" y="7646"/>
                  <a:pt x="11241" y="7663"/>
                  <a:pt x="11266" y="7668"/>
                </a:cubicBezTo>
                <a:cubicBezTo>
                  <a:pt x="11297" y="7675"/>
                  <a:pt x="11326" y="7677"/>
                  <a:pt x="11357" y="7669"/>
                </a:cubicBezTo>
                <a:cubicBezTo>
                  <a:pt x="11389" y="7661"/>
                  <a:pt x="11413" y="7648"/>
                  <a:pt x="11435" y="7625"/>
                </a:cubicBezTo>
                <a:cubicBezTo>
                  <a:pt x="11451" y="7608"/>
                  <a:pt x="11459" y="7586"/>
                  <a:pt x="11449" y="7564"/>
                </a:cubicBezTo>
                <a:cubicBezTo>
                  <a:pt x="11441" y="7545"/>
                  <a:pt x="11419" y="7530"/>
                  <a:pt x="11399" y="7526"/>
                </a:cubicBezTo>
                <a:cubicBezTo>
                  <a:pt x="11375" y="7521"/>
                  <a:pt x="11349" y="7528"/>
                  <a:pt x="11333" y="7547"/>
                </a:cubicBezTo>
                <a:cubicBezTo>
                  <a:pt x="11319" y="7563"/>
                  <a:pt x="11306" y="7592"/>
                  <a:pt x="11309" y="7614"/>
                </a:cubicBezTo>
                <a:cubicBezTo>
                  <a:pt x="11312" y="7634"/>
                  <a:pt x="11330" y="7659"/>
                  <a:pt x="11350" y="7665"/>
                </a:cubicBezTo>
                <a:cubicBezTo>
                  <a:pt x="11369" y="7671"/>
                  <a:pt x="11396" y="7680"/>
                  <a:pt x="11417" y="7677"/>
                </a:cubicBezTo>
                <a:cubicBezTo>
                  <a:pt x="11432" y="7675"/>
                  <a:pt x="11456" y="7665"/>
                  <a:pt x="11466" y="7653"/>
                </a:cubicBezTo>
                <a:cubicBezTo>
                  <a:pt x="11477" y="7640"/>
                  <a:pt x="11472" y="7613"/>
                  <a:pt x="11466" y="7599"/>
                </a:cubicBezTo>
                <a:cubicBezTo>
                  <a:pt x="11458" y="7579"/>
                  <a:pt x="11438" y="7563"/>
                  <a:pt x="11417" y="7560"/>
                </a:cubicBezTo>
                <a:cubicBezTo>
                  <a:pt x="11388" y="7556"/>
                  <a:pt x="11366" y="7570"/>
                  <a:pt x="11356" y="7596"/>
                </a:cubicBezTo>
                <a:cubicBezTo>
                  <a:pt x="11348" y="7617"/>
                  <a:pt x="11351" y="7636"/>
                  <a:pt x="11362" y="7656"/>
                </a:cubicBezTo>
                <a:cubicBezTo>
                  <a:pt x="11372" y="7673"/>
                  <a:pt x="11390" y="7682"/>
                  <a:pt x="11409" y="7683"/>
                </a:cubicBezTo>
                <a:cubicBezTo>
                  <a:pt x="11428" y="7684"/>
                  <a:pt x="11442" y="7683"/>
                  <a:pt x="11456" y="7668"/>
                </a:cubicBezTo>
                <a:cubicBezTo>
                  <a:pt x="11468" y="7655"/>
                  <a:pt x="11473" y="7637"/>
                  <a:pt x="11469" y="7619"/>
                </a:cubicBezTo>
                <a:cubicBezTo>
                  <a:pt x="11464" y="7598"/>
                  <a:pt x="11454" y="7583"/>
                  <a:pt x="11438" y="7569"/>
                </a:cubicBezTo>
                <a:cubicBezTo>
                  <a:pt x="11424" y="7557"/>
                  <a:pt x="11407" y="7551"/>
                  <a:pt x="11391" y="7561"/>
                </a:cubicBezTo>
                <a:cubicBezTo>
                  <a:pt x="11365" y="7577"/>
                  <a:pt x="11362" y="7609"/>
                  <a:pt x="11371" y="7636"/>
                </a:cubicBezTo>
                <a:cubicBezTo>
                  <a:pt x="11378" y="7655"/>
                  <a:pt x="11394" y="7662"/>
                  <a:pt x="11412" y="7669"/>
                </a:cubicBezTo>
                <a:cubicBezTo>
                  <a:pt x="11430" y="7676"/>
                  <a:pt x="11449" y="7676"/>
                  <a:pt x="11466" y="7665"/>
                </a:cubicBezTo>
                <a:cubicBezTo>
                  <a:pt x="11480" y="7656"/>
                  <a:pt x="11483" y="7653"/>
                  <a:pt x="11487" y="7637"/>
                </a:cubicBezTo>
                <a:cubicBezTo>
                  <a:pt x="11481" y="7626"/>
                  <a:pt x="11478" y="7618"/>
                  <a:pt x="11464" y="7613"/>
                </a:cubicBezTo>
                <a:cubicBezTo>
                  <a:pt x="11448" y="7607"/>
                  <a:pt x="11433" y="7611"/>
                  <a:pt x="11418" y="7617"/>
                </a:cubicBezTo>
                <a:cubicBezTo>
                  <a:pt x="11408" y="7621"/>
                  <a:pt x="11397" y="7634"/>
                  <a:pt x="11394" y="7645"/>
                </a:cubicBezTo>
                <a:cubicBezTo>
                  <a:pt x="11392" y="7655"/>
                  <a:pt x="11400" y="7664"/>
                  <a:pt x="11409" y="7665"/>
                </a:cubicBezTo>
                <a:cubicBezTo>
                  <a:pt x="11419" y="7667"/>
                  <a:pt x="11434" y="7659"/>
                  <a:pt x="11443" y="7654"/>
                </a:cubicBezTo>
                <a:cubicBezTo>
                  <a:pt x="11450" y="7650"/>
                  <a:pt x="11455" y="7644"/>
                  <a:pt x="11461" y="7640"/>
                </a:cubicBezTo>
                <a:cubicBezTo>
                  <a:pt x="11464" y="7641"/>
                  <a:pt x="11467" y="7634"/>
                  <a:pt x="11466" y="7637"/>
                </a:cubicBezTo>
                <a:cubicBezTo>
                  <a:pt x="11465" y="7641"/>
                  <a:pt x="11462" y="7644"/>
                  <a:pt x="11461" y="7648"/>
                </a:cubicBezTo>
                <a:cubicBezTo>
                  <a:pt x="11460" y="7651"/>
                  <a:pt x="11465" y="7655"/>
                  <a:pt x="11463" y="7653"/>
                </a:cubicBezTo>
                <a:cubicBezTo>
                  <a:pt x="11460" y="7649"/>
                  <a:pt x="11460" y="7645"/>
                  <a:pt x="11456" y="7643"/>
                </a:cubicBezTo>
                <a:cubicBezTo>
                  <a:pt x="11450" y="7640"/>
                  <a:pt x="11441" y="7640"/>
                  <a:pt x="11434" y="7637"/>
                </a:cubicBezTo>
                <a:cubicBezTo>
                  <a:pt x="11423" y="7633"/>
                  <a:pt x="11413" y="7628"/>
                  <a:pt x="11402" y="7628"/>
                </a:cubicBezTo>
                <a:cubicBezTo>
                  <a:pt x="11394" y="7628"/>
                  <a:pt x="11389" y="7631"/>
                  <a:pt x="11382" y="7633"/>
                </a:cubicBezTo>
                <a:cubicBezTo>
                  <a:pt x="11379" y="7634"/>
                  <a:pt x="11379" y="7637"/>
                  <a:pt x="11376" y="7637"/>
                </a:cubicBezTo>
                <a:cubicBezTo>
                  <a:pt x="11374" y="7637"/>
                  <a:pt x="11368" y="7637"/>
                  <a:pt x="11370" y="7636"/>
                </a:cubicBezTo>
                <a:cubicBezTo>
                  <a:pt x="11373" y="7634"/>
                  <a:pt x="11378" y="7632"/>
                  <a:pt x="11382" y="7631"/>
                </a:cubicBezTo>
                <a:cubicBezTo>
                  <a:pt x="11391" y="7630"/>
                  <a:pt x="11398" y="7629"/>
                  <a:pt x="11408" y="7627"/>
                </a:cubicBezTo>
                <a:cubicBezTo>
                  <a:pt x="11418" y="7625"/>
                  <a:pt x="11425" y="7622"/>
                  <a:pt x="11435" y="7621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49680" y="3282840"/>
            <a:ext cx="588960" cy="436680"/>
          </a:xfrm>
          <a:custGeom>
            <a:avLst/>
            <a:gdLst/>
            <a:ahLst/>
            <a:rect l="l" t="t" r="r" b="b"/>
            <a:pathLst>
              <a:path w="1637" h="1214">
                <a:moveTo>
                  <a:pt x="10145" y="9121"/>
                </a:moveTo>
                <a:cubicBezTo>
                  <a:pt x="10135" y="9116"/>
                  <a:pt x="10144" y="9120"/>
                  <a:pt x="10137" y="9118"/>
                </a:cubicBezTo>
                <a:cubicBezTo>
                  <a:pt x="10138" y="9119"/>
                  <a:pt x="10138" y="9121"/>
                  <a:pt x="10142" y="9124"/>
                </a:cubicBezTo>
                <a:cubicBezTo>
                  <a:pt x="10178" y="9150"/>
                  <a:pt x="10216" y="9172"/>
                  <a:pt x="10253" y="9197"/>
                </a:cubicBezTo>
                <a:cubicBezTo>
                  <a:pt x="10387" y="9288"/>
                  <a:pt x="10510" y="9392"/>
                  <a:pt x="10638" y="9491"/>
                </a:cubicBezTo>
                <a:cubicBezTo>
                  <a:pt x="10685" y="9528"/>
                  <a:pt x="10732" y="9564"/>
                  <a:pt x="10783" y="9596"/>
                </a:cubicBezTo>
                <a:cubicBezTo>
                  <a:pt x="10855" y="9642"/>
                  <a:pt x="10930" y="9684"/>
                  <a:pt x="11002" y="9730"/>
                </a:cubicBezTo>
                <a:cubicBezTo>
                  <a:pt x="11075" y="9777"/>
                  <a:pt x="11151" y="9819"/>
                  <a:pt x="11225" y="9865"/>
                </a:cubicBezTo>
                <a:cubicBezTo>
                  <a:pt x="11255" y="9884"/>
                  <a:pt x="11282" y="9901"/>
                  <a:pt x="11309" y="9924"/>
                </a:cubicBezTo>
                <a:cubicBezTo>
                  <a:pt x="11354" y="9963"/>
                  <a:pt x="11395" y="10001"/>
                  <a:pt x="11443" y="10037"/>
                </a:cubicBezTo>
                <a:cubicBezTo>
                  <a:pt x="11451" y="10043"/>
                  <a:pt x="11465" y="10057"/>
                  <a:pt x="11473" y="10061"/>
                </a:cubicBezTo>
                <a:cubicBezTo>
                  <a:pt x="11485" y="10066"/>
                  <a:pt x="11495" y="10068"/>
                  <a:pt x="11504" y="10072"/>
                </a:cubicBezTo>
                <a:cubicBezTo>
                  <a:pt x="11506" y="10073"/>
                  <a:pt x="11513" y="10068"/>
                  <a:pt x="11517" y="10070"/>
                </a:cubicBezTo>
                <a:cubicBezTo>
                  <a:pt x="11526" y="10074"/>
                  <a:pt x="11533" y="10081"/>
                  <a:pt x="11542" y="10085"/>
                </a:cubicBezTo>
                <a:cubicBezTo>
                  <a:pt x="11545" y="10086"/>
                  <a:pt x="11543" y="10084"/>
                  <a:pt x="11546" y="10085"/>
                </a:cubicBezTo>
                <a:cubicBezTo>
                  <a:pt x="11545" y="10084"/>
                  <a:pt x="11544" y="10084"/>
                  <a:pt x="11546" y="10087"/>
                </a:cubicBezTo>
                <a:cubicBezTo>
                  <a:pt x="11539" y="10076"/>
                  <a:pt x="11542" y="10082"/>
                  <a:pt x="11536" y="10070"/>
                </a:cubicBezTo>
              </a:path>
              <a:path w="1637" h="1214">
                <a:moveTo>
                  <a:pt x="11301" y="10265"/>
                </a:moveTo>
                <a:cubicBezTo>
                  <a:pt x="11298" y="10263"/>
                  <a:pt x="11296" y="10261"/>
                  <a:pt x="11293" y="10259"/>
                </a:cubicBezTo>
                <a:cubicBezTo>
                  <a:pt x="11298" y="10259"/>
                  <a:pt x="11309" y="10262"/>
                  <a:pt x="11315" y="10261"/>
                </a:cubicBezTo>
                <a:cubicBezTo>
                  <a:pt x="11336" y="10258"/>
                  <a:pt x="11354" y="10257"/>
                  <a:pt x="11376" y="10259"/>
                </a:cubicBezTo>
                <a:cubicBezTo>
                  <a:pt x="11410" y="10262"/>
                  <a:pt x="11443" y="10266"/>
                  <a:pt x="11476" y="10270"/>
                </a:cubicBezTo>
                <a:cubicBezTo>
                  <a:pt x="11515" y="10275"/>
                  <a:pt x="11552" y="10277"/>
                  <a:pt x="11591" y="10274"/>
                </a:cubicBezTo>
                <a:cubicBezTo>
                  <a:pt x="11620" y="10272"/>
                  <a:pt x="11650" y="10265"/>
                  <a:pt x="11679" y="10265"/>
                </a:cubicBezTo>
                <a:cubicBezTo>
                  <a:pt x="11696" y="10265"/>
                  <a:pt x="11716" y="10266"/>
                  <a:pt x="11731" y="10273"/>
                </a:cubicBezTo>
                <a:cubicBezTo>
                  <a:pt x="11739" y="10277"/>
                  <a:pt x="11746" y="10283"/>
                  <a:pt x="11754" y="10285"/>
                </a:cubicBezTo>
                <a:cubicBezTo>
                  <a:pt x="11756" y="10285"/>
                  <a:pt x="11757" y="10286"/>
                  <a:pt x="11761" y="10284"/>
                </a:cubicBezTo>
                <a:cubicBezTo>
                  <a:pt x="11765" y="10282"/>
                  <a:pt x="11766" y="10278"/>
                  <a:pt x="11769" y="10277"/>
                </a:cubicBezTo>
                <a:cubicBezTo>
                  <a:pt x="11769" y="10274"/>
                  <a:pt x="11769" y="10273"/>
                  <a:pt x="11772" y="10277"/>
                </a:cubicBezTo>
                <a:cubicBezTo>
                  <a:pt x="11764" y="10273"/>
                  <a:pt x="11762" y="10272"/>
                  <a:pt x="11755" y="10267"/>
                </a:cubicBezTo>
              </a:path>
              <a:path w="1637" h="1214">
                <a:moveTo>
                  <a:pt x="11645" y="9854"/>
                </a:moveTo>
                <a:cubicBezTo>
                  <a:pt x="11645" y="9867"/>
                  <a:pt x="11647" y="9878"/>
                  <a:pt x="11648" y="9890"/>
                </a:cubicBezTo>
                <a:cubicBezTo>
                  <a:pt x="11650" y="9918"/>
                  <a:pt x="11662" y="9944"/>
                  <a:pt x="11668" y="9971"/>
                </a:cubicBezTo>
                <a:cubicBezTo>
                  <a:pt x="11678" y="10016"/>
                  <a:pt x="11692" y="10059"/>
                  <a:pt x="11702" y="10104"/>
                </a:cubicBezTo>
                <a:cubicBezTo>
                  <a:pt x="11711" y="10143"/>
                  <a:pt x="11724" y="10180"/>
                  <a:pt x="11734" y="10218"/>
                </a:cubicBezTo>
                <a:cubicBezTo>
                  <a:pt x="11739" y="10235"/>
                  <a:pt x="11746" y="10251"/>
                  <a:pt x="11752" y="10267"/>
                </a:cubicBezTo>
                <a:cubicBezTo>
                  <a:pt x="11755" y="10274"/>
                  <a:pt x="11756" y="10282"/>
                  <a:pt x="11758" y="10290"/>
                </a:cubicBezTo>
                <a:cubicBezTo>
                  <a:pt x="11760" y="10298"/>
                  <a:pt x="11759" y="10306"/>
                  <a:pt x="11760" y="10314"/>
                </a:cubicBezTo>
                <a:cubicBezTo>
                  <a:pt x="11760" y="10317"/>
                  <a:pt x="11760" y="10325"/>
                  <a:pt x="11760" y="10326"/>
                </a:cubicBezTo>
                <a:cubicBezTo>
                  <a:pt x="11761" y="10333"/>
                  <a:pt x="11762" y="10330"/>
                  <a:pt x="11764" y="10329"/>
                </a:cubicBezTo>
                <a:cubicBezTo>
                  <a:pt x="11764" y="10327"/>
                  <a:pt x="11764" y="10325"/>
                  <a:pt x="11764" y="10323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0240" y="5227560"/>
            <a:ext cx="141480" cy="120600"/>
          </a:xfrm>
          <a:custGeom>
            <a:avLst/>
            <a:gdLst/>
            <a:ahLst/>
            <a:rect l="l" t="t" r="r" b="b"/>
            <a:pathLst>
              <a:path w="394" h="335">
                <a:moveTo>
                  <a:pt x="5332" y="14535"/>
                </a:moveTo>
                <a:cubicBezTo>
                  <a:pt x="5308" y="14532"/>
                  <a:pt x="5292" y="14534"/>
                  <a:pt x="5269" y="14543"/>
                </a:cubicBezTo>
                <a:cubicBezTo>
                  <a:pt x="5238" y="14556"/>
                  <a:pt x="5218" y="14573"/>
                  <a:pt x="5193" y="14595"/>
                </a:cubicBezTo>
                <a:cubicBezTo>
                  <a:pt x="5159" y="14626"/>
                  <a:pt x="5131" y="14664"/>
                  <a:pt x="5109" y="14705"/>
                </a:cubicBezTo>
                <a:cubicBezTo>
                  <a:pt x="5098" y="14726"/>
                  <a:pt x="5091" y="14746"/>
                  <a:pt x="5094" y="14769"/>
                </a:cubicBezTo>
                <a:cubicBezTo>
                  <a:pt x="5112" y="14780"/>
                  <a:pt x="5121" y="14786"/>
                  <a:pt x="5146" y="14787"/>
                </a:cubicBezTo>
                <a:cubicBezTo>
                  <a:pt x="5190" y="14789"/>
                  <a:pt x="5233" y="14780"/>
                  <a:pt x="5275" y="14767"/>
                </a:cubicBezTo>
                <a:cubicBezTo>
                  <a:pt x="5314" y="14755"/>
                  <a:pt x="5343" y="14736"/>
                  <a:pt x="5375" y="14711"/>
                </a:cubicBezTo>
                <a:cubicBezTo>
                  <a:pt x="5402" y="14690"/>
                  <a:pt x="5428" y="14665"/>
                  <a:pt x="5446" y="14636"/>
                </a:cubicBezTo>
                <a:cubicBezTo>
                  <a:pt x="5458" y="14616"/>
                  <a:pt x="5466" y="14591"/>
                  <a:pt x="5457" y="14569"/>
                </a:cubicBezTo>
                <a:cubicBezTo>
                  <a:pt x="5449" y="14549"/>
                  <a:pt x="5425" y="14532"/>
                  <a:pt x="5405" y="14526"/>
                </a:cubicBezTo>
                <a:cubicBezTo>
                  <a:pt x="5378" y="14518"/>
                  <a:pt x="5345" y="14527"/>
                  <a:pt x="5321" y="14538"/>
                </a:cubicBezTo>
                <a:cubicBezTo>
                  <a:pt x="5277" y="14558"/>
                  <a:pt x="5238" y="14590"/>
                  <a:pt x="5201" y="14619"/>
                </a:cubicBezTo>
                <a:cubicBezTo>
                  <a:pt x="5175" y="14640"/>
                  <a:pt x="5154" y="14659"/>
                  <a:pt x="5137" y="14688"/>
                </a:cubicBezTo>
                <a:cubicBezTo>
                  <a:pt x="5123" y="14713"/>
                  <a:pt x="5114" y="14742"/>
                  <a:pt x="5123" y="14770"/>
                </a:cubicBezTo>
                <a:cubicBezTo>
                  <a:pt x="5130" y="14791"/>
                  <a:pt x="5147" y="14796"/>
                  <a:pt x="5166" y="14799"/>
                </a:cubicBezTo>
                <a:cubicBezTo>
                  <a:pt x="5186" y="14803"/>
                  <a:pt x="5203" y="14794"/>
                  <a:pt x="5221" y="14785"/>
                </a:cubicBezTo>
                <a:cubicBezTo>
                  <a:pt x="5239" y="14776"/>
                  <a:pt x="5254" y="14758"/>
                  <a:pt x="5263" y="14741"/>
                </a:cubicBezTo>
                <a:cubicBezTo>
                  <a:pt x="5272" y="14725"/>
                  <a:pt x="5281" y="14704"/>
                  <a:pt x="5275" y="14685"/>
                </a:cubicBezTo>
                <a:cubicBezTo>
                  <a:pt x="5266" y="14655"/>
                  <a:pt x="5238" y="14639"/>
                  <a:pt x="5208" y="14641"/>
                </a:cubicBezTo>
                <a:cubicBezTo>
                  <a:pt x="5187" y="14642"/>
                  <a:pt x="5164" y="14651"/>
                  <a:pt x="5146" y="14662"/>
                </a:cubicBezTo>
                <a:cubicBezTo>
                  <a:pt x="5121" y="14678"/>
                  <a:pt x="5100" y="14700"/>
                  <a:pt x="5091" y="14729"/>
                </a:cubicBezTo>
                <a:cubicBezTo>
                  <a:pt x="5084" y="14753"/>
                  <a:pt x="5083" y="14778"/>
                  <a:pt x="5091" y="14802"/>
                </a:cubicBezTo>
                <a:cubicBezTo>
                  <a:pt x="5098" y="14822"/>
                  <a:pt x="5110" y="14846"/>
                  <a:pt x="5131" y="14854"/>
                </a:cubicBezTo>
                <a:cubicBezTo>
                  <a:pt x="5153" y="14862"/>
                  <a:pt x="5180" y="14853"/>
                  <a:pt x="5199" y="14842"/>
                </a:cubicBezTo>
                <a:cubicBezTo>
                  <a:pt x="5245" y="14816"/>
                  <a:pt x="5285" y="14776"/>
                  <a:pt x="5323" y="14741"/>
                </a:cubicBezTo>
                <a:cubicBezTo>
                  <a:pt x="5345" y="14721"/>
                  <a:pt x="5367" y="14701"/>
                  <a:pt x="5388" y="14680"/>
                </a:cubicBezTo>
                <a:cubicBezTo>
                  <a:pt x="5395" y="14673"/>
                  <a:pt x="5403" y="14667"/>
                  <a:pt x="5411" y="14660"/>
                </a:cubicBezTo>
                <a:cubicBezTo>
                  <a:pt x="5406" y="14665"/>
                  <a:pt x="5401" y="14668"/>
                  <a:pt x="5397" y="14674"/>
                </a:cubicBezTo>
                <a:cubicBezTo>
                  <a:pt x="5389" y="14686"/>
                  <a:pt x="5378" y="14703"/>
                  <a:pt x="5379" y="14718"/>
                </a:cubicBezTo>
                <a:cubicBezTo>
                  <a:pt x="5380" y="14730"/>
                  <a:pt x="5389" y="14739"/>
                  <a:pt x="5400" y="14740"/>
                </a:cubicBezTo>
                <a:cubicBezTo>
                  <a:pt x="5417" y="14742"/>
                  <a:pt x="5441" y="14733"/>
                  <a:pt x="5455" y="14723"/>
                </a:cubicBezTo>
                <a:cubicBezTo>
                  <a:pt x="5468" y="14713"/>
                  <a:pt x="5470" y="14710"/>
                  <a:pt x="5478" y="14698"/>
                </a:cubicBezTo>
                <a:cubicBezTo>
                  <a:pt x="5464" y="14688"/>
                  <a:pt x="5457" y="14684"/>
                  <a:pt x="5438" y="14682"/>
                </a:cubicBezTo>
                <a:cubicBezTo>
                  <a:pt x="5410" y="14679"/>
                  <a:pt x="5377" y="14681"/>
                  <a:pt x="5349" y="14686"/>
                </a:cubicBezTo>
                <a:cubicBezTo>
                  <a:pt x="5314" y="14692"/>
                  <a:pt x="5280" y="14705"/>
                  <a:pt x="5248" y="14720"/>
                </a:cubicBezTo>
                <a:cubicBezTo>
                  <a:pt x="5236" y="14726"/>
                  <a:pt x="5219" y="14736"/>
                  <a:pt x="5213" y="14750"/>
                </a:cubicBezTo>
                <a:cubicBezTo>
                  <a:pt x="5209" y="14759"/>
                  <a:pt x="5216" y="14758"/>
                  <a:pt x="5215" y="14765"/>
                </a:cubicBezTo>
                <a:cubicBezTo>
                  <a:pt x="5226" y="14767"/>
                  <a:pt x="5232" y="14768"/>
                  <a:pt x="5243" y="14767"/>
                </a:cubicBezTo>
                <a:cubicBezTo>
                  <a:pt x="5256" y="14766"/>
                  <a:pt x="5277" y="14765"/>
                  <a:pt x="5289" y="14759"/>
                </a:cubicBezTo>
                <a:cubicBezTo>
                  <a:pt x="5306" y="14751"/>
                  <a:pt x="5309" y="14749"/>
                  <a:pt x="5321" y="14735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29160" y="5195880"/>
            <a:ext cx="96840" cy="141120"/>
          </a:xfrm>
          <a:custGeom>
            <a:avLst/>
            <a:gdLst/>
            <a:ahLst/>
            <a:rect l="l" t="t" r="r" b="b"/>
            <a:pathLst>
              <a:path w="271" h="391">
                <a:moveTo>
                  <a:pt x="12619" y="14435"/>
                </a:moveTo>
                <a:cubicBezTo>
                  <a:pt x="12609" y="14437"/>
                  <a:pt x="12603" y="14436"/>
                  <a:pt x="12595" y="14444"/>
                </a:cubicBezTo>
                <a:cubicBezTo>
                  <a:pt x="12580" y="14458"/>
                  <a:pt x="12580" y="14477"/>
                  <a:pt x="12579" y="14496"/>
                </a:cubicBezTo>
                <a:cubicBezTo>
                  <a:pt x="12577" y="14554"/>
                  <a:pt x="12589" y="14616"/>
                  <a:pt x="12607" y="14671"/>
                </a:cubicBezTo>
                <a:cubicBezTo>
                  <a:pt x="12619" y="14708"/>
                  <a:pt x="12629" y="14742"/>
                  <a:pt x="12659" y="14767"/>
                </a:cubicBezTo>
                <a:cubicBezTo>
                  <a:pt x="12680" y="14785"/>
                  <a:pt x="12707" y="14794"/>
                  <a:pt x="12735" y="14787"/>
                </a:cubicBezTo>
                <a:cubicBezTo>
                  <a:pt x="12765" y="14779"/>
                  <a:pt x="12782" y="14758"/>
                  <a:pt x="12797" y="14733"/>
                </a:cubicBezTo>
                <a:cubicBezTo>
                  <a:pt x="12816" y="14701"/>
                  <a:pt x="12816" y="14671"/>
                  <a:pt x="12815" y="14636"/>
                </a:cubicBezTo>
                <a:cubicBezTo>
                  <a:pt x="12814" y="14603"/>
                  <a:pt x="12805" y="14573"/>
                  <a:pt x="12786" y="14546"/>
                </a:cubicBezTo>
                <a:cubicBezTo>
                  <a:pt x="12771" y="14524"/>
                  <a:pt x="12751" y="14515"/>
                  <a:pt x="12726" y="14510"/>
                </a:cubicBezTo>
                <a:cubicBezTo>
                  <a:pt x="12698" y="14504"/>
                  <a:pt x="12672" y="14509"/>
                  <a:pt x="12646" y="14520"/>
                </a:cubicBezTo>
                <a:cubicBezTo>
                  <a:pt x="12628" y="14528"/>
                  <a:pt x="12599" y="14550"/>
                  <a:pt x="12593" y="14570"/>
                </a:cubicBezTo>
                <a:cubicBezTo>
                  <a:pt x="12582" y="14605"/>
                  <a:pt x="12596" y="14638"/>
                  <a:pt x="12601" y="14671"/>
                </a:cubicBezTo>
                <a:cubicBezTo>
                  <a:pt x="12607" y="14710"/>
                  <a:pt x="12620" y="14739"/>
                  <a:pt x="12646" y="14770"/>
                </a:cubicBezTo>
                <a:cubicBezTo>
                  <a:pt x="12673" y="14801"/>
                  <a:pt x="12708" y="14827"/>
                  <a:pt x="12751" y="14825"/>
                </a:cubicBezTo>
                <a:cubicBezTo>
                  <a:pt x="12784" y="14823"/>
                  <a:pt x="12809" y="14800"/>
                  <a:pt x="12825" y="14773"/>
                </a:cubicBezTo>
                <a:cubicBezTo>
                  <a:pt x="12844" y="14739"/>
                  <a:pt x="12852" y="14695"/>
                  <a:pt x="12847" y="14657"/>
                </a:cubicBezTo>
                <a:cubicBezTo>
                  <a:pt x="12843" y="14625"/>
                  <a:pt x="12830" y="14592"/>
                  <a:pt x="12803" y="14572"/>
                </a:cubicBezTo>
                <a:cubicBezTo>
                  <a:pt x="12775" y="14551"/>
                  <a:pt x="12729" y="14544"/>
                  <a:pt x="12697" y="14557"/>
                </a:cubicBezTo>
                <a:cubicBezTo>
                  <a:pt x="12679" y="14564"/>
                  <a:pt x="12673" y="14577"/>
                  <a:pt x="12674" y="14596"/>
                </a:cubicBezTo>
                <a:cubicBezTo>
                  <a:pt x="12676" y="14627"/>
                  <a:pt x="12695" y="14659"/>
                  <a:pt x="12713" y="14683"/>
                </a:cubicBezTo>
                <a:cubicBezTo>
                  <a:pt x="12726" y="14701"/>
                  <a:pt x="12738" y="14712"/>
                  <a:pt x="12759" y="14720"/>
                </a:cubicBezTo>
                <a:cubicBezTo>
                  <a:pt x="12778" y="14717"/>
                  <a:pt x="12786" y="14710"/>
                  <a:pt x="12793" y="14691"/>
                </a:cubicBezTo>
                <a:cubicBezTo>
                  <a:pt x="12801" y="14669"/>
                  <a:pt x="12803" y="14641"/>
                  <a:pt x="12803" y="14618"/>
                </a:cubicBezTo>
                <a:cubicBezTo>
                  <a:pt x="12803" y="14588"/>
                  <a:pt x="12794" y="14577"/>
                  <a:pt x="12773" y="14563"/>
                </a:cubicBezTo>
                <a:cubicBezTo>
                  <a:pt x="12756" y="14572"/>
                  <a:pt x="12747" y="14575"/>
                  <a:pt x="12738" y="14596"/>
                </a:cubicBezTo>
                <a:cubicBezTo>
                  <a:pt x="12729" y="14618"/>
                  <a:pt x="12724" y="14639"/>
                  <a:pt x="12727" y="14663"/>
                </a:cubicBezTo>
                <a:cubicBezTo>
                  <a:pt x="12729" y="14680"/>
                  <a:pt x="12735" y="14691"/>
                  <a:pt x="12748" y="14701"/>
                </a:cubicBezTo>
                <a:cubicBezTo>
                  <a:pt x="12760" y="14710"/>
                  <a:pt x="12770" y="14707"/>
                  <a:pt x="12783" y="14705"/>
                </a:cubicBezTo>
                <a:cubicBezTo>
                  <a:pt x="12795" y="14703"/>
                  <a:pt x="12804" y="14690"/>
                  <a:pt x="12808" y="14679"/>
                </a:cubicBezTo>
                <a:cubicBezTo>
                  <a:pt x="12814" y="14661"/>
                  <a:pt x="12806" y="14643"/>
                  <a:pt x="12794" y="14631"/>
                </a:cubicBezTo>
                <a:cubicBezTo>
                  <a:pt x="12780" y="14631"/>
                  <a:pt x="12775" y="14625"/>
                  <a:pt x="12762" y="14636"/>
                </a:cubicBezTo>
                <a:cubicBezTo>
                  <a:pt x="12752" y="14645"/>
                  <a:pt x="12752" y="14655"/>
                  <a:pt x="12756" y="14666"/>
                </a:cubicBezTo>
                <a:cubicBezTo>
                  <a:pt x="12759" y="14670"/>
                  <a:pt x="12761" y="14673"/>
                  <a:pt x="12764" y="14677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92800" y="2714760"/>
            <a:ext cx="88920" cy="85680"/>
          </a:xfrm>
          <a:custGeom>
            <a:avLst/>
            <a:gdLst/>
            <a:ahLst/>
            <a:rect l="l" t="t" r="r" b="b"/>
            <a:pathLst>
              <a:path w="244" h="236">
                <a:moveTo>
                  <a:pt x="17624" y="7563"/>
                </a:moveTo>
                <a:cubicBezTo>
                  <a:pt x="17612" y="7562"/>
                  <a:pt x="17608" y="7561"/>
                  <a:pt x="17599" y="7573"/>
                </a:cubicBezTo>
                <a:cubicBezTo>
                  <a:pt x="17585" y="7593"/>
                  <a:pt x="17575" y="7620"/>
                  <a:pt x="17570" y="7643"/>
                </a:cubicBezTo>
                <a:cubicBezTo>
                  <a:pt x="17563" y="7674"/>
                  <a:pt x="17555" y="7706"/>
                  <a:pt x="17558" y="7738"/>
                </a:cubicBezTo>
                <a:cubicBezTo>
                  <a:pt x="17560" y="7757"/>
                  <a:pt x="17562" y="7764"/>
                  <a:pt x="17573" y="7776"/>
                </a:cubicBezTo>
                <a:cubicBezTo>
                  <a:pt x="17595" y="7773"/>
                  <a:pt x="17611" y="7759"/>
                  <a:pt x="17625" y="7741"/>
                </a:cubicBezTo>
                <a:cubicBezTo>
                  <a:pt x="17648" y="7712"/>
                  <a:pt x="17664" y="7680"/>
                  <a:pt x="17674" y="7645"/>
                </a:cubicBezTo>
                <a:cubicBezTo>
                  <a:pt x="17683" y="7611"/>
                  <a:pt x="17679" y="7571"/>
                  <a:pt x="17644" y="7555"/>
                </a:cubicBezTo>
                <a:cubicBezTo>
                  <a:pt x="17612" y="7540"/>
                  <a:pt x="17582" y="7549"/>
                  <a:pt x="17552" y="7563"/>
                </a:cubicBezTo>
                <a:cubicBezTo>
                  <a:pt x="17524" y="7576"/>
                  <a:pt x="17497" y="7596"/>
                  <a:pt x="17485" y="7625"/>
                </a:cubicBezTo>
                <a:cubicBezTo>
                  <a:pt x="17474" y="7650"/>
                  <a:pt x="17486" y="7673"/>
                  <a:pt x="17506" y="7689"/>
                </a:cubicBezTo>
                <a:cubicBezTo>
                  <a:pt x="17527" y="7706"/>
                  <a:pt x="17563" y="7719"/>
                  <a:pt x="17590" y="7721"/>
                </a:cubicBezTo>
                <a:cubicBezTo>
                  <a:pt x="17619" y="7723"/>
                  <a:pt x="17643" y="7713"/>
                  <a:pt x="17665" y="7694"/>
                </a:cubicBezTo>
                <a:cubicBezTo>
                  <a:pt x="17682" y="7680"/>
                  <a:pt x="17685" y="7657"/>
                  <a:pt x="17683" y="7636"/>
                </a:cubicBezTo>
                <a:cubicBezTo>
                  <a:pt x="17681" y="7615"/>
                  <a:pt x="17672" y="7601"/>
                  <a:pt x="17653" y="7593"/>
                </a:cubicBezTo>
                <a:cubicBezTo>
                  <a:pt x="17637" y="7586"/>
                  <a:pt x="17620" y="7588"/>
                  <a:pt x="17607" y="7601"/>
                </a:cubicBezTo>
                <a:cubicBezTo>
                  <a:pt x="17594" y="7614"/>
                  <a:pt x="17592" y="7642"/>
                  <a:pt x="17596" y="7659"/>
                </a:cubicBezTo>
                <a:cubicBezTo>
                  <a:pt x="17599" y="7674"/>
                  <a:pt x="17620" y="7700"/>
                  <a:pt x="17636" y="7703"/>
                </a:cubicBezTo>
                <a:cubicBezTo>
                  <a:pt x="17652" y="7706"/>
                  <a:pt x="17682" y="7693"/>
                  <a:pt x="17694" y="7683"/>
                </a:cubicBezTo>
                <a:cubicBezTo>
                  <a:pt x="17713" y="7666"/>
                  <a:pt x="17726" y="7642"/>
                  <a:pt x="17724" y="7616"/>
                </a:cubicBezTo>
                <a:cubicBezTo>
                  <a:pt x="17722" y="7589"/>
                  <a:pt x="17703" y="7563"/>
                  <a:pt x="17679" y="7552"/>
                </a:cubicBezTo>
                <a:cubicBezTo>
                  <a:pt x="17640" y="7534"/>
                  <a:pt x="17587" y="7539"/>
                  <a:pt x="17552" y="7563"/>
                </a:cubicBezTo>
                <a:cubicBezTo>
                  <a:pt x="17538" y="7572"/>
                  <a:pt x="17518" y="7604"/>
                  <a:pt x="17541" y="7616"/>
                </a:cubicBezTo>
                <a:cubicBezTo>
                  <a:pt x="17546" y="7617"/>
                  <a:pt x="17552" y="7618"/>
                  <a:pt x="17557" y="7619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18280" y="3298680"/>
            <a:ext cx="463680" cy="325440"/>
          </a:xfrm>
          <a:custGeom>
            <a:avLst/>
            <a:gdLst/>
            <a:ahLst/>
            <a:rect l="l" t="t" r="r" b="b"/>
            <a:pathLst>
              <a:path w="1287" h="903">
                <a:moveTo>
                  <a:pt x="17275" y="10018"/>
                </a:moveTo>
                <a:cubicBezTo>
                  <a:pt x="17288" y="10005"/>
                  <a:pt x="17302" y="9993"/>
                  <a:pt x="17316" y="9980"/>
                </a:cubicBezTo>
                <a:cubicBezTo>
                  <a:pt x="17351" y="9949"/>
                  <a:pt x="17386" y="9925"/>
                  <a:pt x="17423" y="9898"/>
                </a:cubicBezTo>
                <a:cubicBezTo>
                  <a:pt x="17480" y="9857"/>
                  <a:pt x="17540" y="9825"/>
                  <a:pt x="17601" y="9790"/>
                </a:cubicBezTo>
                <a:cubicBezTo>
                  <a:pt x="17681" y="9744"/>
                  <a:pt x="17762" y="9699"/>
                  <a:pt x="17840" y="9650"/>
                </a:cubicBezTo>
                <a:cubicBezTo>
                  <a:pt x="18033" y="9529"/>
                  <a:pt x="18206" y="9381"/>
                  <a:pt x="18395" y="9255"/>
                </a:cubicBezTo>
                <a:cubicBezTo>
                  <a:pt x="18441" y="9224"/>
                  <a:pt x="18492" y="9191"/>
                  <a:pt x="18544" y="9171"/>
                </a:cubicBezTo>
                <a:cubicBezTo>
                  <a:pt x="18548" y="9169"/>
                  <a:pt x="18555" y="9166"/>
                  <a:pt x="18558" y="9165"/>
                </a:cubicBezTo>
                <a:cubicBezTo>
                  <a:pt x="18560" y="9164"/>
                  <a:pt x="18559" y="9169"/>
                  <a:pt x="18561" y="9168"/>
                </a:cubicBezTo>
                <a:cubicBezTo>
                  <a:pt x="18551" y="9173"/>
                  <a:pt x="18542" y="9177"/>
                  <a:pt x="18533" y="9181"/>
                </a:cubicBezTo>
                <a:cubicBezTo>
                  <a:pt x="18504" y="9195"/>
                  <a:pt x="18477" y="9210"/>
                  <a:pt x="18449" y="9229"/>
                </a:cubicBezTo>
              </a:path>
              <a:path w="1287" h="903">
                <a:moveTo>
                  <a:pt x="17432" y="9723"/>
                </a:moveTo>
                <a:cubicBezTo>
                  <a:pt x="17428" y="9721"/>
                  <a:pt x="17428" y="9723"/>
                  <a:pt x="17424" y="9720"/>
                </a:cubicBezTo>
                <a:cubicBezTo>
                  <a:pt x="17415" y="9714"/>
                  <a:pt x="17432" y="9721"/>
                  <a:pt x="17421" y="9717"/>
                </a:cubicBezTo>
                <a:cubicBezTo>
                  <a:pt x="17421" y="9718"/>
                  <a:pt x="17419" y="9727"/>
                  <a:pt x="17417" y="9732"/>
                </a:cubicBezTo>
                <a:cubicBezTo>
                  <a:pt x="17410" y="9755"/>
                  <a:pt x="17400" y="9777"/>
                  <a:pt x="17391" y="9799"/>
                </a:cubicBezTo>
                <a:cubicBezTo>
                  <a:pt x="17377" y="9836"/>
                  <a:pt x="17361" y="9873"/>
                  <a:pt x="17346" y="9910"/>
                </a:cubicBezTo>
                <a:cubicBezTo>
                  <a:pt x="17334" y="9941"/>
                  <a:pt x="17324" y="9973"/>
                  <a:pt x="17314" y="10005"/>
                </a:cubicBezTo>
                <a:cubicBezTo>
                  <a:pt x="17310" y="10017"/>
                  <a:pt x="17308" y="10025"/>
                  <a:pt x="17305" y="10037"/>
                </a:cubicBezTo>
                <a:cubicBezTo>
                  <a:pt x="17305" y="10038"/>
                  <a:pt x="17305" y="10039"/>
                  <a:pt x="17305" y="10040"/>
                </a:cubicBezTo>
                <a:cubicBezTo>
                  <a:pt x="17309" y="10040"/>
                  <a:pt x="17310" y="10039"/>
                  <a:pt x="17314" y="10040"/>
                </a:cubicBezTo>
                <a:cubicBezTo>
                  <a:pt x="17325" y="10042"/>
                  <a:pt x="17333" y="10043"/>
                  <a:pt x="17345" y="10043"/>
                </a:cubicBezTo>
                <a:cubicBezTo>
                  <a:pt x="17365" y="10043"/>
                  <a:pt x="17386" y="10042"/>
                  <a:pt x="17406" y="10040"/>
                </a:cubicBezTo>
                <a:cubicBezTo>
                  <a:pt x="17433" y="10037"/>
                  <a:pt x="17457" y="10033"/>
                  <a:pt x="17484" y="10034"/>
                </a:cubicBezTo>
                <a:cubicBezTo>
                  <a:pt x="17509" y="10035"/>
                  <a:pt x="17536" y="10037"/>
                  <a:pt x="17561" y="10040"/>
                </a:cubicBezTo>
                <a:cubicBezTo>
                  <a:pt x="17586" y="10043"/>
                  <a:pt x="17606" y="10044"/>
                  <a:pt x="17631" y="10038"/>
                </a:cubicBezTo>
                <a:cubicBezTo>
                  <a:pt x="17651" y="10034"/>
                  <a:pt x="17668" y="10029"/>
                  <a:pt x="17686" y="10021"/>
                </a:cubicBezTo>
                <a:cubicBezTo>
                  <a:pt x="17693" y="10018"/>
                  <a:pt x="17703" y="10015"/>
                  <a:pt x="17709" y="10012"/>
                </a:cubicBezTo>
                <a:cubicBezTo>
                  <a:pt x="17712" y="10011"/>
                  <a:pt x="17710" y="10017"/>
                  <a:pt x="17712" y="10015"/>
                </a:cubicBezTo>
                <a:cubicBezTo>
                  <a:pt x="17711" y="10014"/>
                  <a:pt x="17710" y="10013"/>
                  <a:pt x="17709" y="10012"/>
                </a:cubicBezTo>
                <a:cubicBezTo>
                  <a:pt x="17715" y="10024"/>
                  <a:pt x="17724" y="10037"/>
                  <a:pt x="17727" y="10050"/>
                </a:cubicBezTo>
                <a:cubicBezTo>
                  <a:pt x="17728" y="10055"/>
                  <a:pt x="17728" y="10061"/>
                  <a:pt x="17729" y="10066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95880" y="3984480"/>
            <a:ext cx="98280" cy="141480"/>
          </a:xfrm>
          <a:custGeom>
            <a:avLst/>
            <a:gdLst/>
            <a:ahLst/>
            <a:rect l="l" t="t" r="r" b="b"/>
            <a:pathLst>
              <a:path w="273" h="391">
                <a:moveTo>
                  <a:pt x="14475" y="11094"/>
                </a:moveTo>
                <a:cubicBezTo>
                  <a:pt x="14468" y="11087"/>
                  <a:pt x="14459" y="11081"/>
                  <a:pt x="14453" y="11076"/>
                </a:cubicBezTo>
                <a:cubicBezTo>
                  <a:pt x="14451" y="11074"/>
                  <a:pt x="14448" y="11073"/>
                  <a:pt x="14446" y="11071"/>
                </a:cubicBezTo>
                <a:cubicBezTo>
                  <a:pt x="14437" y="11091"/>
                  <a:pt x="14432" y="11107"/>
                  <a:pt x="14433" y="11131"/>
                </a:cubicBezTo>
                <a:cubicBezTo>
                  <a:pt x="14434" y="11183"/>
                  <a:pt x="14448" y="11237"/>
                  <a:pt x="14461" y="11287"/>
                </a:cubicBezTo>
                <a:cubicBezTo>
                  <a:pt x="14473" y="11334"/>
                  <a:pt x="14490" y="11384"/>
                  <a:pt x="14516" y="11425"/>
                </a:cubicBezTo>
                <a:cubicBezTo>
                  <a:pt x="14532" y="11451"/>
                  <a:pt x="14558" y="11465"/>
                  <a:pt x="14589" y="11454"/>
                </a:cubicBezTo>
                <a:cubicBezTo>
                  <a:pt x="14621" y="11442"/>
                  <a:pt x="14654" y="11398"/>
                  <a:pt x="14670" y="11370"/>
                </a:cubicBezTo>
                <a:cubicBezTo>
                  <a:pt x="14695" y="11326"/>
                  <a:pt x="14705" y="11267"/>
                  <a:pt x="14705" y="11217"/>
                </a:cubicBezTo>
                <a:cubicBezTo>
                  <a:pt x="14705" y="11166"/>
                  <a:pt x="14690" y="11131"/>
                  <a:pt x="14657" y="11094"/>
                </a:cubicBezTo>
                <a:cubicBezTo>
                  <a:pt x="14633" y="11067"/>
                  <a:pt x="14609" y="11060"/>
                  <a:pt x="14578" y="11082"/>
                </a:cubicBezTo>
                <a:cubicBezTo>
                  <a:pt x="14542" y="11108"/>
                  <a:pt x="14532" y="11141"/>
                  <a:pt x="14525" y="11182"/>
                </a:cubicBezTo>
                <a:cubicBezTo>
                  <a:pt x="14519" y="11219"/>
                  <a:pt x="14511" y="11279"/>
                  <a:pt x="14537" y="11312"/>
                </a:cubicBezTo>
                <a:cubicBezTo>
                  <a:pt x="14554" y="11334"/>
                  <a:pt x="14589" y="11342"/>
                  <a:pt x="14615" y="11335"/>
                </a:cubicBezTo>
                <a:cubicBezTo>
                  <a:pt x="14641" y="11328"/>
                  <a:pt x="14677" y="11301"/>
                  <a:pt x="14688" y="11277"/>
                </a:cubicBezTo>
                <a:cubicBezTo>
                  <a:pt x="14703" y="11245"/>
                  <a:pt x="14690" y="11198"/>
                  <a:pt x="14673" y="11170"/>
                </a:cubicBezTo>
                <a:cubicBezTo>
                  <a:pt x="14657" y="11143"/>
                  <a:pt x="14626" y="11103"/>
                  <a:pt x="14595" y="11092"/>
                </a:cubicBezTo>
                <a:cubicBezTo>
                  <a:pt x="14567" y="11082"/>
                  <a:pt x="14542" y="11095"/>
                  <a:pt x="14531" y="11121"/>
                </a:cubicBezTo>
                <a:cubicBezTo>
                  <a:pt x="14520" y="11147"/>
                  <a:pt x="14522" y="11170"/>
                  <a:pt x="14529" y="11196"/>
                </a:cubicBezTo>
                <a:cubicBezTo>
                  <a:pt x="14537" y="11227"/>
                  <a:pt x="14559" y="11224"/>
                  <a:pt x="14589" y="11228"/>
                </a:cubicBezTo>
                <a:cubicBezTo>
                  <a:pt x="14612" y="11230"/>
                  <a:pt x="14620" y="11231"/>
                  <a:pt x="14636" y="11231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3120" y="5567400"/>
            <a:ext cx="836640" cy="158760"/>
          </a:xfrm>
          <a:custGeom>
            <a:avLst/>
            <a:gdLst/>
            <a:ahLst/>
            <a:rect l="l" t="t" r="r" b="b"/>
            <a:pathLst>
              <a:path w="2322" h="441">
                <a:moveTo>
                  <a:pt x="8097" y="15603"/>
                </a:moveTo>
                <a:cubicBezTo>
                  <a:pt x="8103" y="15603"/>
                  <a:pt x="8096" y="15607"/>
                  <a:pt x="8102" y="15606"/>
                </a:cubicBezTo>
                <a:cubicBezTo>
                  <a:pt x="8126" y="15604"/>
                  <a:pt x="8151" y="15602"/>
                  <a:pt x="8176" y="15600"/>
                </a:cubicBezTo>
                <a:cubicBezTo>
                  <a:pt x="8234" y="15595"/>
                  <a:pt x="8293" y="15591"/>
                  <a:pt x="8351" y="15587"/>
                </a:cubicBezTo>
                <a:cubicBezTo>
                  <a:pt x="8432" y="15581"/>
                  <a:pt x="8514" y="15574"/>
                  <a:pt x="8595" y="15570"/>
                </a:cubicBezTo>
                <a:cubicBezTo>
                  <a:pt x="8836" y="15557"/>
                  <a:pt x="9063" y="15578"/>
                  <a:pt x="9298" y="15632"/>
                </a:cubicBezTo>
                <a:cubicBezTo>
                  <a:pt x="9465" y="15670"/>
                  <a:pt x="9630" y="15713"/>
                  <a:pt x="9803" y="15712"/>
                </a:cubicBezTo>
                <a:cubicBezTo>
                  <a:pt x="9943" y="15711"/>
                  <a:pt x="10080" y="15687"/>
                  <a:pt x="10221" y="15695"/>
                </a:cubicBezTo>
                <a:cubicBezTo>
                  <a:pt x="10242" y="15696"/>
                  <a:pt x="10265" y="15700"/>
                  <a:pt x="10286" y="15699"/>
                </a:cubicBezTo>
                <a:cubicBezTo>
                  <a:pt x="10290" y="15699"/>
                  <a:pt x="10292" y="15705"/>
                  <a:pt x="10292" y="15701"/>
                </a:cubicBezTo>
                <a:cubicBezTo>
                  <a:pt x="10292" y="15696"/>
                  <a:pt x="10285" y="15704"/>
                  <a:pt x="10285" y="15699"/>
                </a:cubicBezTo>
                <a:cubicBezTo>
                  <a:pt x="10285" y="15691"/>
                  <a:pt x="10271" y="15691"/>
                  <a:pt x="10265" y="15686"/>
                </a:cubicBezTo>
              </a:path>
              <a:path w="2322" h="441">
                <a:moveTo>
                  <a:pt x="10044" y="15466"/>
                </a:moveTo>
                <a:cubicBezTo>
                  <a:pt x="10038" y="15466"/>
                  <a:pt x="10028" y="15466"/>
                  <a:pt x="10020" y="15465"/>
                </a:cubicBezTo>
                <a:cubicBezTo>
                  <a:pt x="10019" y="15465"/>
                  <a:pt x="10018" y="15465"/>
                  <a:pt x="10017" y="15465"/>
                </a:cubicBezTo>
                <a:cubicBezTo>
                  <a:pt x="10032" y="15475"/>
                  <a:pt x="10048" y="15483"/>
                  <a:pt x="10064" y="15491"/>
                </a:cubicBezTo>
                <a:cubicBezTo>
                  <a:pt x="10107" y="15512"/>
                  <a:pt x="10150" y="15533"/>
                  <a:pt x="10193" y="15556"/>
                </a:cubicBezTo>
                <a:cubicBezTo>
                  <a:pt x="10257" y="15590"/>
                  <a:pt x="10316" y="15629"/>
                  <a:pt x="10366" y="15681"/>
                </a:cubicBezTo>
                <a:cubicBezTo>
                  <a:pt x="10379" y="15695"/>
                  <a:pt x="10390" y="15711"/>
                  <a:pt x="10404" y="15725"/>
                </a:cubicBezTo>
                <a:cubicBezTo>
                  <a:pt x="10407" y="15728"/>
                  <a:pt x="10410" y="15727"/>
                  <a:pt x="10413" y="15730"/>
                </a:cubicBezTo>
                <a:cubicBezTo>
                  <a:pt x="10412" y="15730"/>
                  <a:pt x="10412" y="15730"/>
                  <a:pt x="10411" y="15730"/>
                </a:cubicBezTo>
                <a:cubicBezTo>
                  <a:pt x="10409" y="15729"/>
                  <a:pt x="10409" y="15729"/>
                  <a:pt x="10407" y="15728"/>
                </a:cubicBezTo>
                <a:cubicBezTo>
                  <a:pt x="10395" y="15724"/>
                  <a:pt x="10384" y="15723"/>
                  <a:pt x="10372" y="15722"/>
                </a:cubicBezTo>
                <a:cubicBezTo>
                  <a:pt x="10345" y="15720"/>
                  <a:pt x="10318" y="15727"/>
                  <a:pt x="10292" y="15734"/>
                </a:cubicBezTo>
                <a:cubicBezTo>
                  <a:pt x="10232" y="15750"/>
                  <a:pt x="10170" y="15774"/>
                  <a:pt x="10114" y="15801"/>
                </a:cubicBezTo>
                <a:cubicBezTo>
                  <a:pt x="10088" y="15813"/>
                  <a:pt x="10062" y="15828"/>
                  <a:pt x="10038" y="15844"/>
                </a:cubicBezTo>
                <a:cubicBezTo>
                  <a:pt x="10029" y="15850"/>
                  <a:pt x="10015" y="15861"/>
                  <a:pt x="10012" y="15873"/>
                </a:cubicBezTo>
                <a:cubicBezTo>
                  <a:pt x="10010" y="15881"/>
                  <a:pt x="10013" y="15882"/>
                  <a:pt x="10015" y="15888"/>
                </a:cubicBezTo>
                <a:cubicBezTo>
                  <a:pt x="10016" y="15893"/>
                  <a:pt x="10023" y="15899"/>
                  <a:pt x="10029" y="15902"/>
                </a:cubicBezTo>
                <a:cubicBezTo>
                  <a:pt x="10034" y="15903"/>
                  <a:pt x="10036" y="15904"/>
                  <a:pt x="10040" y="15905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85960" y="4361040"/>
            <a:ext cx="911160" cy="172800"/>
          </a:xfrm>
          <a:custGeom>
            <a:avLst/>
            <a:gdLst/>
            <a:ahLst/>
            <a:rect l="l" t="t" r="r" b="b"/>
            <a:pathLst>
              <a:path w="2531" h="482">
                <a:moveTo>
                  <a:pt x="7491" y="12186"/>
                </a:moveTo>
                <a:cubicBezTo>
                  <a:pt x="7487" y="12187"/>
                  <a:pt x="7482" y="12187"/>
                  <a:pt x="7479" y="12188"/>
                </a:cubicBezTo>
                <a:cubicBezTo>
                  <a:pt x="7480" y="12189"/>
                  <a:pt x="7478" y="12195"/>
                  <a:pt x="7483" y="12198"/>
                </a:cubicBezTo>
                <a:cubicBezTo>
                  <a:pt x="7496" y="12205"/>
                  <a:pt x="7508" y="12212"/>
                  <a:pt x="7523" y="12217"/>
                </a:cubicBezTo>
                <a:cubicBezTo>
                  <a:pt x="7571" y="12234"/>
                  <a:pt x="7628" y="12235"/>
                  <a:pt x="7678" y="12238"/>
                </a:cubicBezTo>
                <a:cubicBezTo>
                  <a:pt x="7844" y="12248"/>
                  <a:pt x="8002" y="12212"/>
                  <a:pt x="8166" y="12192"/>
                </a:cubicBezTo>
                <a:cubicBezTo>
                  <a:pt x="8326" y="12173"/>
                  <a:pt x="8491" y="12165"/>
                  <a:pt x="8652" y="12168"/>
                </a:cubicBezTo>
                <a:cubicBezTo>
                  <a:pt x="8727" y="12169"/>
                  <a:pt x="8802" y="12172"/>
                  <a:pt x="8877" y="12174"/>
                </a:cubicBezTo>
                <a:cubicBezTo>
                  <a:pt x="9109" y="12180"/>
                  <a:pt x="9335" y="12186"/>
                  <a:pt x="9564" y="12229"/>
                </a:cubicBezTo>
                <a:cubicBezTo>
                  <a:pt x="9623" y="12240"/>
                  <a:pt x="9682" y="12243"/>
                  <a:pt x="9742" y="12246"/>
                </a:cubicBezTo>
                <a:cubicBezTo>
                  <a:pt x="9802" y="12249"/>
                  <a:pt x="9864" y="12256"/>
                  <a:pt x="9924" y="12255"/>
                </a:cubicBezTo>
                <a:cubicBezTo>
                  <a:pt x="9948" y="12255"/>
                  <a:pt x="9969" y="12250"/>
                  <a:pt x="9992" y="12247"/>
                </a:cubicBezTo>
                <a:cubicBezTo>
                  <a:pt x="9979" y="12238"/>
                  <a:pt x="9975" y="12227"/>
                  <a:pt x="9956" y="12217"/>
                </a:cubicBezTo>
                <a:cubicBezTo>
                  <a:pt x="9947" y="12214"/>
                  <a:pt x="9937" y="12211"/>
                  <a:pt x="9928" y="12208"/>
                </a:cubicBezTo>
              </a:path>
              <a:path w="2531" h="482">
                <a:moveTo>
                  <a:pt x="7524" y="12253"/>
                </a:moveTo>
                <a:cubicBezTo>
                  <a:pt x="7522" y="12258"/>
                  <a:pt x="7517" y="12261"/>
                  <a:pt x="7517" y="12269"/>
                </a:cubicBezTo>
                <a:cubicBezTo>
                  <a:pt x="7518" y="12270"/>
                  <a:pt x="7519" y="12271"/>
                  <a:pt x="7520" y="12272"/>
                </a:cubicBezTo>
                <a:cubicBezTo>
                  <a:pt x="7527" y="12263"/>
                  <a:pt x="7530" y="12262"/>
                  <a:pt x="7542" y="12255"/>
                </a:cubicBezTo>
                <a:cubicBezTo>
                  <a:pt x="7564" y="12241"/>
                  <a:pt x="7586" y="12231"/>
                  <a:pt x="7610" y="12220"/>
                </a:cubicBezTo>
                <a:cubicBezTo>
                  <a:pt x="7641" y="12205"/>
                  <a:pt x="7672" y="12198"/>
                  <a:pt x="7706" y="12189"/>
                </a:cubicBezTo>
                <a:cubicBezTo>
                  <a:pt x="7749" y="12177"/>
                  <a:pt x="7794" y="12162"/>
                  <a:pt x="7835" y="12145"/>
                </a:cubicBezTo>
                <a:cubicBezTo>
                  <a:pt x="7840" y="12143"/>
                  <a:pt x="7848" y="12141"/>
                  <a:pt x="7850" y="12141"/>
                </a:cubicBezTo>
                <a:cubicBezTo>
                  <a:pt x="7847" y="12137"/>
                  <a:pt x="7842" y="12130"/>
                  <a:pt x="7838" y="12128"/>
                </a:cubicBezTo>
                <a:cubicBezTo>
                  <a:pt x="7827" y="12123"/>
                  <a:pt x="7810" y="12118"/>
                  <a:pt x="7798" y="12115"/>
                </a:cubicBezTo>
                <a:cubicBezTo>
                  <a:pt x="7792" y="12114"/>
                  <a:pt x="7786" y="12113"/>
                  <a:pt x="7780" y="12112"/>
                </a:cubicBezTo>
              </a:path>
              <a:path w="2531" h="482">
                <a:moveTo>
                  <a:pt x="7468" y="12252"/>
                </a:moveTo>
                <a:cubicBezTo>
                  <a:pt x="7466" y="12252"/>
                  <a:pt x="7464" y="12252"/>
                  <a:pt x="7462" y="12252"/>
                </a:cubicBezTo>
                <a:cubicBezTo>
                  <a:pt x="7467" y="12259"/>
                  <a:pt x="7472" y="12264"/>
                  <a:pt x="7479" y="12272"/>
                </a:cubicBezTo>
                <a:cubicBezTo>
                  <a:pt x="7497" y="12291"/>
                  <a:pt x="7514" y="12312"/>
                  <a:pt x="7530" y="12333"/>
                </a:cubicBezTo>
                <a:cubicBezTo>
                  <a:pt x="7559" y="12370"/>
                  <a:pt x="7588" y="12404"/>
                  <a:pt x="7619" y="12439"/>
                </a:cubicBezTo>
                <a:cubicBezTo>
                  <a:pt x="7650" y="12474"/>
                  <a:pt x="7683" y="12499"/>
                  <a:pt x="7724" y="12521"/>
                </a:cubicBezTo>
                <a:cubicBezTo>
                  <a:pt x="7752" y="12536"/>
                  <a:pt x="7784" y="12550"/>
                  <a:pt x="7814" y="12561"/>
                </a:cubicBezTo>
                <a:cubicBezTo>
                  <a:pt x="7831" y="12567"/>
                  <a:pt x="7846" y="12574"/>
                  <a:pt x="7862" y="12581"/>
                </a:cubicBezTo>
                <a:cubicBezTo>
                  <a:pt x="7868" y="12584"/>
                  <a:pt x="7874" y="12585"/>
                  <a:pt x="7878" y="12588"/>
                </a:cubicBezTo>
                <a:cubicBezTo>
                  <a:pt x="7883" y="12591"/>
                  <a:pt x="7884" y="12598"/>
                  <a:pt x="7887" y="12593"/>
                </a:cubicBezTo>
                <a:cubicBezTo>
                  <a:pt x="7887" y="12589"/>
                  <a:pt x="7886" y="12587"/>
                  <a:pt x="7884" y="12584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7" dur="1" fill="hold">
                                    <p:stCondLst>
                                      <p:cond evt="end">
                                        <p:tn val="494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Goal Cycle in Jadex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20836" b="51940"/>
          <a:stretch/>
        </p:blipFill>
        <p:spPr>
          <a:xfrm>
            <a:off x="395280" y="1386000"/>
            <a:ext cx="8209080" cy="3738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236000" y="6093000"/>
            <a:ext cx="158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Pokhar 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Jadex vs Tropos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8080" indent="-21924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ND-Decomposition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097280" indent="-21924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Tropos </a:t>
            </a:r>
            <a:r>
              <a:rPr b="0" lang="en-US" sz="1800" spc="-1" strike="noStrike">
                <a:solidFill>
                  <a:srgbClr val="408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 Knowledge Level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3" marL="148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UAV agent knows that to investigate enemy area, it needs to 1) define the flight airways, 2) fly to the target, 3) Identify the target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Jadex  </a:t>
            </a:r>
            <a:r>
              <a:rPr b="0" lang="en-US" sz="1800" spc="-1" strike="noStrike">
                <a:solidFill>
                  <a:srgbClr val="408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 Plan Level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3" marL="148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investigate enemy area-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n UAV ha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pl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at triggers subgoals which are 1) define the flight airways-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2) fly to the target-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3) Identify the target-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080" indent="-21924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OR-Decomposition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097280" indent="-21924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Tropos </a:t>
            </a:r>
            <a:r>
              <a:rPr b="0" lang="en-US" sz="1800" spc="-1" strike="noStrike">
                <a:solidFill>
                  <a:srgbClr val="408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 Knowledge level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3" marL="148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take a picture-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n UAV can apply: 1) take-store schema-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 2) take-transmit schema-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not supported in Jadex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1" marL="658080" indent="-219240">
              <a:spcBef>
                <a:spcPts val="60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tribution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097280" indent="-21924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not supported in Jadex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GR Framework Realization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apt the differ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How to mimic decomposition relation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How to represent contribution relations such that it is considered during goal reasoning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iberation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f there are several alternatives, an agent should choose among alternatives deliberately considering the risk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oning (i.e., risk reason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dapt the GR reasoning in the deliberation proces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Realization Rules Thumb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-Decomposi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efine a plan that triggers the subgoals when the top goal is activated by an agen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48320" y="4087800"/>
          <a:ext cx="419076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087800"/>
                    <a:ext cx="419076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954680" y="1252440"/>
            <a:ext cx="3578040" cy="259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1619280" y="4898880"/>
          <a:ext cx="1758960" cy="122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4898880"/>
                    <a:ext cx="175896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Realization Rules Thumb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-Decomposi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efine plans that each plan will trigger a subgoa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Reasoning chooses only one plan among the applicable one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954680" y="1252440"/>
            <a:ext cx="3578040" cy="259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4808520" y="3962520"/>
          <a:ext cx="387036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8520" y="3962520"/>
                    <a:ext cx="38703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Outline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DI Archite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-Risk Frame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dex – an Implementation of BDI Archite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izaation GR Framework in Jad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ding Rema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Realization Rules Thumb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3303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tion Relations from the Treatment Lay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 goal/plan can be achieved/executed with or without the treatmen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Depends on the level of risk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eated as OR-Decomposi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2160720" cy="419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6084720" y="2349360"/>
          <a:ext cx="2770200" cy="388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2349360"/>
                    <a:ext cx="2770200" cy="38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Belief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ledge of the ag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shold of Risk (also cos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Risk Level (also cost) of the chosen altern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ll Layer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Values of each construct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tion relations are represented in GR Model (i.e., belief) for reasoning purp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746520" cy="5089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060960" y="1363680"/>
            <a:ext cx="974880" cy="822240"/>
          </a:xfrm>
          <a:custGeom>
            <a:avLst/>
            <a:gdLst/>
            <a:ahLst/>
            <a:rect l="l" t="t" r="r" b="b"/>
            <a:pathLst>
              <a:path w="2707" h="2286">
                <a:moveTo>
                  <a:pt x="19271" y="3871"/>
                </a:moveTo>
                <a:cubicBezTo>
                  <a:pt x="19230" y="3869"/>
                  <a:pt x="19188" y="3866"/>
                  <a:pt x="19146" y="3864"/>
                </a:cubicBezTo>
                <a:cubicBezTo>
                  <a:pt x="18740" y="3847"/>
                  <a:pt x="18262" y="3930"/>
                  <a:pt x="17889" y="4085"/>
                </a:cubicBezTo>
                <a:cubicBezTo>
                  <a:pt x="17644" y="4187"/>
                  <a:pt x="17461" y="4358"/>
                  <a:pt x="17269" y="4534"/>
                </a:cubicBezTo>
                <a:cubicBezTo>
                  <a:pt x="17059" y="4726"/>
                  <a:pt x="16866" y="4905"/>
                  <a:pt x="16838" y="5203"/>
                </a:cubicBezTo>
                <a:cubicBezTo>
                  <a:pt x="16819" y="5410"/>
                  <a:pt x="16839" y="5663"/>
                  <a:pt x="16975" y="5829"/>
                </a:cubicBezTo>
                <a:cubicBezTo>
                  <a:pt x="17129" y="6017"/>
                  <a:pt x="17348" y="6076"/>
                  <a:pt x="17581" y="6070"/>
                </a:cubicBezTo>
                <a:cubicBezTo>
                  <a:pt x="17992" y="6060"/>
                  <a:pt x="18463" y="5911"/>
                  <a:pt x="18841" y="5757"/>
                </a:cubicBezTo>
                <a:cubicBezTo>
                  <a:pt x="19032" y="5679"/>
                  <a:pt x="19181" y="5572"/>
                  <a:pt x="19277" y="5386"/>
                </a:cubicBezTo>
                <a:cubicBezTo>
                  <a:pt x="19336" y="5271"/>
                  <a:pt x="19375" y="5140"/>
                  <a:pt x="19414" y="5017"/>
                </a:cubicBezTo>
                <a:cubicBezTo>
                  <a:pt x="19463" y="4862"/>
                  <a:pt x="19524" y="4691"/>
                  <a:pt x="19539" y="4528"/>
                </a:cubicBezTo>
                <a:cubicBezTo>
                  <a:pt x="19557" y="4343"/>
                  <a:pt x="19528" y="4081"/>
                  <a:pt x="19393" y="3941"/>
                </a:cubicBezTo>
                <a:cubicBezTo>
                  <a:pt x="19341" y="3887"/>
                  <a:pt x="19267" y="3888"/>
                  <a:pt x="19204" y="3859"/>
                </a:cubicBezTo>
                <a:cubicBezTo>
                  <a:pt x="19158" y="3838"/>
                  <a:pt x="19124" y="3813"/>
                  <a:pt x="19082" y="3786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24600" y="2371680"/>
            <a:ext cx="639720" cy="774720"/>
          </a:xfrm>
          <a:custGeom>
            <a:avLst/>
            <a:gdLst/>
            <a:ahLst/>
            <a:rect l="l" t="t" r="r" b="b"/>
            <a:pathLst>
              <a:path w="1777" h="2149">
                <a:moveTo>
                  <a:pt x="18195" y="6650"/>
                </a:moveTo>
                <a:cubicBezTo>
                  <a:pt x="18107" y="6647"/>
                  <a:pt x="18021" y="6634"/>
                  <a:pt x="17933" y="6630"/>
                </a:cubicBezTo>
                <a:cubicBezTo>
                  <a:pt x="17749" y="6621"/>
                  <a:pt x="17537" y="6637"/>
                  <a:pt x="17360" y="6688"/>
                </a:cubicBezTo>
                <a:cubicBezTo>
                  <a:pt x="17295" y="6707"/>
                  <a:pt x="17240" y="6736"/>
                  <a:pt x="17190" y="6781"/>
                </a:cubicBezTo>
                <a:cubicBezTo>
                  <a:pt x="17049" y="6908"/>
                  <a:pt x="16960" y="7118"/>
                  <a:pt x="16874" y="7284"/>
                </a:cubicBezTo>
                <a:cubicBezTo>
                  <a:pt x="16809" y="7410"/>
                  <a:pt x="16760" y="7534"/>
                  <a:pt x="16742" y="7675"/>
                </a:cubicBezTo>
                <a:cubicBezTo>
                  <a:pt x="16707" y="7953"/>
                  <a:pt x="16779" y="8365"/>
                  <a:pt x="17013" y="8550"/>
                </a:cubicBezTo>
                <a:cubicBezTo>
                  <a:pt x="17091" y="8611"/>
                  <a:pt x="17193" y="8644"/>
                  <a:pt x="17282" y="8684"/>
                </a:cubicBezTo>
                <a:cubicBezTo>
                  <a:pt x="17332" y="8707"/>
                  <a:pt x="17377" y="8727"/>
                  <a:pt x="17433" y="8734"/>
                </a:cubicBezTo>
                <a:cubicBezTo>
                  <a:pt x="17530" y="8747"/>
                  <a:pt x="17618" y="8720"/>
                  <a:pt x="17706" y="8681"/>
                </a:cubicBezTo>
                <a:cubicBezTo>
                  <a:pt x="17871" y="8607"/>
                  <a:pt x="18048" y="8496"/>
                  <a:pt x="18166" y="8358"/>
                </a:cubicBezTo>
                <a:cubicBezTo>
                  <a:pt x="18283" y="8221"/>
                  <a:pt x="18361" y="8036"/>
                  <a:pt x="18407" y="7863"/>
                </a:cubicBezTo>
                <a:cubicBezTo>
                  <a:pt x="18427" y="7786"/>
                  <a:pt x="18442" y="7707"/>
                  <a:pt x="18460" y="7630"/>
                </a:cubicBezTo>
                <a:cubicBezTo>
                  <a:pt x="18491" y="7501"/>
                  <a:pt x="18519" y="7370"/>
                  <a:pt x="18503" y="7238"/>
                </a:cubicBezTo>
                <a:cubicBezTo>
                  <a:pt x="18483" y="7065"/>
                  <a:pt x="18414" y="6853"/>
                  <a:pt x="18305" y="6716"/>
                </a:cubicBezTo>
                <a:cubicBezTo>
                  <a:pt x="18257" y="6655"/>
                  <a:pt x="18149" y="6561"/>
                  <a:pt x="18061" y="6592"/>
                </a:cubicBezTo>
                <a:cubicBezTo>
                  <a:pt x="18035" y="6601"/>
                  <a:pt x="18025" y="6625"/>
                  <a:pt x="18003" y="6638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62520" y="3295800"/>
            <a:ext cx="1677960" cy="487080"/>
          </a:xfrm>
          <a:custGeom>
            <a:avLst/>
            <a:gdLst/>
            <a:ahLst/>
            <a:rect l="l" t="t" r="r" b="b"/>
            <a:pathLst>
              <a:path w="4663" h="1352">
                <a:moveTo>
                  <a:pt x="20346" y="9228"/>
                </a:moveTo>
                <a:cubicBezTo>
                  <a:pt x="20188" y="9163"/>
                  <a:pt x="20067" y="9156"/>
                  <a:pt x="19889" y="9158"/>
                </a:cubicBezTo>
                <a:cubicBezTo>
                  <a:pt x="19593" y="9162"/>
                  <a:pt x="19301" y="9191"/>
                  <a:pt x="19004" y="9185"/>
                </a:cubicBezTo>
                <a:cubicBezTo>
                  <a:pt x="18622" y="9177"/>
                  <a:pt x="18257" y="9212"/>
                  <a:pt x="17877" y="9240"/>
                </a:cubicBezTo>
                <a:cubicBezTo>
                  <a:pt x="17642" y="9257"/>
                  <a:pt x="17429" y="9292"/>
                  <a:pt x="17200" y="9340"/>
                </a:cubicBezTo>
                <a:cubicBezTo>
                  <a:pt x="16991" y="9384"/>
                  <a:pt x="16779" y="9363"/>
                  <a:pt x="16574" y="9429"/>
                </a:cubicBezTo>
                <a:cubicBezTo>
                  <a:pt x="16436" y="9474"/>
                  <a:pt x="16332" y="9536"/>
                  <a:pt x="16239" y="9647"/>
                </a:cubicBezTo>
                <a:cubicBezTo>
                  <a:pt x="16161" y="9741"/>
                  <a:pt x="16085" y="9863"/>
                  <a:pt x="16038" y="9976"/>
                </a:cubicBezTo>
                <a:cubicBezTo>
                  <a:pt x="15972" y="10134"/>
                  <a:pt x="16031" y="10259"/>
                  <a:pt x="16169" y="10351"/>
                </a:cubicBezTo>
                <a:cubicBezTo>
                  <a:pt x="16497" y="10570"/>
                  <a:pt x="16949" y="10513"/>
                  <a:pt x="17317" y="10475"/>
                </a:cubicBezTo>
                <a:cubicBezTo>
                  <a:pt x="17886" y="10416"/>
                  <a:pt x="18464" y="10392"/>
                  <a:pt x="19031" y="10317"/>
                </a:cubicBezTo>
                <a:cubicBezTo>
                  <a:pt x="19467" y="10260"/>
                  <a:pt x="19882" y="10066"/>
                  <a:pt x="20284" y="9895"/>
                </a:cubicBezTo>
                <a:cubicBezTo>
                  <a:pt x="20391" y="9850"/>
                  <a:pt x="20544" y="9806"/>
                  <a:pt x="20617" y="9709"/>
                </a:cubicBezTo>
                <a:cubicBezTo>
                  <a:pt x="20634" y="9686"/>
                  <a:pt x="20678" y="9601"/>
                  <a:pt x="20668" y="9571"/>
                </a:cubicBezTo>
                <a:cubicBezTo>
                  <a:pt x="20655" y="9532"/>
                  <a:pt x="20599" y="9516"/>
                  <a:pt x="20570" y="9491"/>
                </a:cubicBezTo>
                <a:cubicBezTo>
                  <a:pt x="20549" y="9479"/>
                  <a:pt x="20543" y="9475"/>
                  <a:pt x="20529" y="9468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9960" y="3781440"/>
            <a:ext cx="1152720" cy="2063880"/>
          </a:xfrm>
          <a:custGeom>
            <a:avLst/>
            <a:gdLst/>
            <a:ahLst/>
            <a:rect l="l" t="t" r="r" b="b"/>
            <a:pathLst>
              <a:path w="3199" h="5734">
                <a:moveTo>
                  <a:pt x="17487" y="10733"/>
                </a:moveTo>
                <a:cubicBezTo>
                  <a:pt x="17481" y="10794"/>
                  <a:pt x="17470" y="10867"/>
                  <a:pt x="17465" y="10934"/>
                </a:cubicBezTo>
                <a:cubicBezTo>
                  <a:pt x="17433" y="11392"/>
                  <a:pt x="17429" y="11851"/>
                  <a:pt x="17401" y="12310"/>
                </a:cubicBezTo>
                <a:cubicBezTo>
                  <a:pt x="17377" y="12696"/>
                  <a:pt x="17395" y="13076"/>
                  <a:pt x="17388" y="13461"/>
                </a:cubicBezTo>
                <a:cubicBezTo>
                  <a:pt x="17382" y="13826"/>
                  <a:pt x="17379" y="14192"/>
                  <a:pt x="17369" y="14557"/>
                </a:cubicBezTo>
                <a:cubicBezTo>
                  <a:pt x="17360" y="14890"/>
                  <a:pt x="17414" y="15215"/>
                  <a:pt x="17400" y="15549"/>
                </a:cubicBezTo>
                <a:cubicBezTo>
                  <a:pt x="17396" y="15639"/>
                  <a:pt x="17368" y="15786"/>
                  <a:pt x="17409" y="15871"/>
                </a:cubicBezTo>
                <a:cubicBezTo>
                  <a:pt x="17442" y="15941"/>
                  <a:pt x="17520" y="15996"/>
                  <a:pt x="17576" y="16047"/>
                </a:cubicBezTo>
                <a:cubicBezTo>
                  <a:pt x="17766" y="16217"/>
                  <a:pt x="17983" y="16243"/>
                  <a:pt x="18230" y="16234"/>
                </a:cubicBezTo>
                <a:cubicBezTo>
                  <a:pt x="18809" y="16212"/>
                  <a:pt x="19375" y="16059"/>
                  <a:pt x="19956" y="16066"/>
                </a:cubicBezTo>
                <a:cubicBezTo>
                  <a:pt x="20083" y="16068"/>
                  <a:pt x="20396" y="16141"/>
                  <a:pt x="20514" y="16048"/>
                </a:cubicBezTo>
                <a:cubicBezTo>
                  <a:pt x="20547" y="16022"/>
                  <a:pt x="20523" y="16058"/>
                  <a:pt x="20547" y="16015"/>
                </a:cubicBezTo>
                <a:cubicBezTo>
                  <a:pt x="20722" y="15703"/>
                  <a:pt x="20454" y="14940"/>
                  <a:pt x="20429" y="14615"/>
                </a:cubicBezTo>
                <a:cubicBezTo>
                  <a:pt x="20388" y="14080"/>
                  <a:pt x="20399" y="13537"/>
                  <a:pt x="20371" y="13000"/>
                </a:cubicBezTo>
                <a:cubicBezTo>
                  <a:pt x="20335" y="12313"/>
                  <a:pt x="20184" y="11634"/>
                  <a:pt x="20182" y="10948"/>
                </a:cubicBezTo>
                <a:cubicBezTo>
                  <a:pt x="20182" y="10863"/>
                  <a:pt x="20194" y="10747"/>
                  <a:pt x="20160" y="10667"/>
                </a:cubicBezTo>
                <a:cubicBezTo>
                  <a:pt x="20125" y="10584"/>
                  <a:pt x="20090" y="10559"/>
                  <a:pt x="20003" y="10544"/>
                </a:cubicBezTo>
                <a:cubicBezTo>
                  <a:pt x="19769" y="10503"/>
                  <a:pt x="19460" y="10574"/>
                  <a:pt x="19216" y="10565"/>
                </a:cubicBezTo>
                <a:cubicBezTo>
                  <a:pt x="18951" y="10555"/>
                  <a:pt x="18646" y="10472"/>
                  <a:pt x="18385" y="10509"/>
                </a:cubicBezTo>
                <a:cubicBezTo>
                  <a:pt x="18286" y="10523"/>
                  <a:pt x="18192" y="10558"/>
                  <a:pt x="18091" y="10571"/>
                </a:cubicBezTo>
                <a:cubicBezTo>
                  <a:pt x="17984" y="10585"/>
                  <a:pt x="17850" y="10622"/>
                  <a:pt x="17744" y="10613"/>
                </a:cubicBezTo>
                <a:cubicBezTo>
                  <a:pt x="17701" y="10610"/>
                  <a:pt x="17656" y="10583"/>
                  <a:pt x="17612" y="10578"/>
                </a:cubicBezTo>
                <a:cubicBezTo>
                  <a:pt x="17573" y="10574"/>
                  <a:pt x="17509" y="10563"/>
                  <a:pt x="17484" y="10570"/>
                </a:cubicBezTo>
                <a:cubicBezTo>
                  <a:pt x="17463" y="10576"/>
                  <a:pt x="17448" y="10607"/>
                  <a:pt x="17436" y="10610"/>
                </a:cubicBezTo>
                <a:cubicBezTo>
                  <a:pt x="17424" y="10613"/>
                  <a:pt x="17438" y="10629"/>
                  <a:pt x="17426" y="10632"/>
                </a:cubicBezTo>
                <a:cubicBezTo>
                  <a:pt x="17412" y="10636"/>
                  <a:pt x="17440" y="10608"/>
                  <a:pt x="17427" y="10614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Goal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default all goals in GR model ar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chieve 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additional 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aintain risk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goal that has several applicable pla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.g., or-decomposition, contribution relations from the treatment layer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ta level reasoning (e.g., choose_planG07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94400" y="1822320"/>
            <a:ext cx="4098600" cy="4127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26000" y="1909800"/>
            <a:ext cx="243000" cy="1297080"/>
          </a:xfrm>
          <a:custGeom>
            <a:avLst/>
            <a:gdLst/>
            <a:ahLst/>
            <a:rect l="l" t="t" r="r" b="b"/>
            <a:pathLst>
              <a:path w="676" h="3603">
                <a:moveTo>
                  <a:pt x="12850" y="5378"/>
                </a:moveTo>
                <a:cubicBezTo>
                  <a:pt x="12851" y="5379"/>
                  <a:pt x="12851" y="5379"/>
                  <a:pt x="12852" y="5380"/>
                </a:cubicBezTo>
                <a:cubicBezTo>
                  <a:pt x="12850" y="5373"/>
                  <a:pt x="12849" y="5381"/>
                  <a:pt x="12850" y="5376"/>
                </a:cubicBezTo>
                <a:cubicBezTo>
                  <a:pt x="12850" y="5374"/>
                  <a:pt x="12848" y="5376"/>
                  <a:pt x="12850" y="5376"/>
                </a:cubicBezTo>
                <a:cubicBezTo>
                  <a:pt x="12858" y="5375"/>
                  <a:pt x="12852" y="5373"/>
                  <a:pt x="12864" y="5375"/>
                </a:cubicBezTo>
                <a:cubicBezTo>
                  <a:pt x="12884" y="5379"/>
                  <a:pt x="12904" y="5385"/>
                  <a:pt x="12925" y="5386"/>
                </a:cubicBezTo>
                <a:cubicBezTo>
                  <a:pt x="12973" y="5389"/>
                  <a:pt x="13020" y="5385"/>
                  <a:pt x="13067" y="5378"/>
                </a:cubicBezTo>
                <a:cubicBezTo>
                  <a:pt x="13125" y="5369"/>
                  <a:pt x="13184" y="5358"/>
                  <a:pt x="13242" y="5346"/>
                </a:cubicBezTo>
                <a:cubicBezTo>
                  <a:pt x="13282" y="5337"/>
                  <a:pt x="13321" y="5327"/>
                  <a:pt x="13361" y="5320"/>
                </a:cubicBezTo>
                <a:cubicBezTo>
                  <a:pt x="13373" y="5318"/>
                  <a:pt x="13389" y="5314"/>
                  <a:pt x="13400" y="5311"/>
                </a:cubicBezTo>
                <a:cubicBezTo>
                  <a:pt x="13402" y="5311"/>
                  <a:pt x="13403" y="5311"/>
                  <a:pt x="13400" y="5311"/>
                </a:cubicBezTo>
                <a:cubicBezTo>
                  <a:pt x="13392" y="5311"/>
                  <a:pt x="13397" y="5311"/>
                  <a:pt x="13393" y="5311"/>
                </a:cubicBezTo>
                <a:cubicBezTo>
                  <a:pt x="13379" y="5309"/>
                  <a:pt x="13371" y="5309"/>
                  <a:pt x="13356" y="5306"/>
                </a:cubicBezTo>
              </a:path>
              <a:path w="676" h="3603">
                <a:moveTo>
                  <a:pt x="12860" y="5472"/>
                </a:moveTo>
                <a:cubicBezTo>
                  <a:pt x="12866" y="5522"/>
                  <a:pt x="12873" y="5570"/>
                  <a:pt x="12875" y="5622"/>
                </a:cubicBezTo>
                <a:cubicBezTo>
                  <a:pt x="12877" y="5682"/>
                  <a:pt x="12878" y="5742"/>
                  <a:pt x="12878" y="5802"/>
                </a:cubicBezTo>
                <a:cubicBezTo>
                  <a:pt x="12877" y="6100"/>
                  <a:pt x="12903" y="6396"/>
                  <a:pt x="12910" y="6694"/>
                </a:cubicBezTo>
                <a:cubicBezTo>
                  <a:pt x="12913" y="6838"/>
                  <a:pt x="12936" y="6975"/>
                  <a:pt x="12948" y="7118"/>
                </a:cubicBezTo>
                <a:cubicBezTo>
                  <a:pt x="12958" y="7237"/>
                  <a:pt x="12957" y="7357"/>
                  <a:pt x="12965" y="7476"/>
                </a:cubicBezTo>
                <a:cubicBezTo>
                  <a:pt x="12967" y="7509"/>
                  <a:pt x="12968" y="7543"/>
                  <a:pt x="12969" y="7576"/>
                </a:cubicBezTo>
                <a:cubicBezTo>
                  <a:pt x="12970" y="7636"/>
                  <a:pt x="12967" y="7695"/>
                  <a:pt x="12971" y="7755"/>
                </a:cubicBezTo>
                <a:cubicBezTo>
                  <a:pt x="12977" y="7845"/>
                  <a:pt x="12983" y="7933"/>
                  <a:pt x="12978" y="8023"/>
                </a:cubicBezTo>
                <a:cubicBezTo>
                  <a:pt x="12973" y="8100"/>
                  <a:pt x="12970" y="8178"/>
                  <a:pt x="12971" y="8256"/>
                </a:cubicBezTo>
                <a:cubicBezTo>
                  <a:pt x="12971" y="8283"/>
                  <a:pt x="12973" y="8310"/>
                  <a:pt x="12974" y="8337"/>
                </a:cubicBezTo>
                <a:cubicBezTo>
                  <a:pt x="12975" y="8363"/>
                  <a:pt x="12977" y="8386"/>
                  <a:pt x="12982" y="8410"/>
                </a:cubicBezTo>
                <a:cubicBezTo>
                  <a:pt x="12985" y="8425"/>
                  <a:pt x="12993" y="8447"/>
                  <a:pt x="12997" y="8460"/>
                </a:cubicBezTo>
                <a:cubicBezTo>
                  <a:pt x="12998" y="8464"/>
                  <a:pt x="12999" y="8461"/>
                  <a:pt x="13001" y="8465"/>
                </a:cubicBezTo>
                <a:cubicBezTo>
                  <a:pt x="13001" y="8465"/>
                  <a:pt x="13002" y="8471"/>
                  <a:pt x="13004" y="8475"/>
                </a:cubicBezTo>
                <a:cubicBezTo>
                  <a:pt x="13009" y="8488"/>
                  <a:pt x="13021" y="8515"/>
                  <a:pt x="13024" y="8521"/>
                </a:cubicBezTo>
                <a:cubicBezTo>
                  <a:pt x="13027" y="8527"/>
                  <a:pt x="13026" y="8529"/>
                  <a:pt x="13029" y="8535"/>
                </a:cubicBezTo>
                <a:cubicBezTo>
                  <a:pt x="13030" y="8536"/>
                  <a:pt x="13029" y="8539"/>
                  <a:pt x="13033" y="8545"/>
                </a:cubicBezTo>
                <a:cubicBezTo>
                  <a:pt x="13037" y="8552"/>
                  <a:pt x="13045" y="8559"/>
                  <a:pt x="13049" y="8567"/>
                </a:cubicBezTo>
                <a:cubicBezTo>
                  <a:pt x="13062" y="8595"/>
                  <a:pt x="13071" y="8611"/>
                  <a:pt x="13079" y="8643"/>
                </a:cubicBezTo>
                <a:cubicBezTo>
                  <a:pt x="13086" y="8672"/>
                  <a:pt x="13091" y="8707"/>
                  <a:pt x="13094" y="8737"/>
                </a:cubicBezTo>
                <a:cubicBezTo>
                  <a:pt x="13095" y="8749"/>
                  <a:pt x="13097" y="8762"/>
                  <a:pt x="13096" y="8774"/>
                </a:cubicBezTo>
                <a:cubicBezTo>
                  <a:pt x="13095" y="8802"/>
                  <a:pt x="13085" y="8825"/>
                  <a:pt x="13081" y="8848"/>
                </a:cubicBezTo>
                <a:cubicBezTo>
                  <a:pt x="13081" y="8850"/>
                  <a:pt x="13079" y="8854"/>
                  <a:pt x="13079" y="8856"/>
                </a:cubicBezTo>
                <a:cubicBezTo>
                  <a:pt x="13083" y="8856"/>
                  <a:pt x="13086" y="8858"/>
                  <a:pt x="13091" y="8858"/>
                </a:cubicBezTo>
                <a:cubicBezTo>
                  <a:pt x="13152" y="8857"/>
                  <a:pt x="13210" y="8862"/>
                  <a:pt x="13271" y="8868"/>
                </a:cubicBezTo>
                <a:cubicBezTo>
                  <a:pt x="13330" y="8874"/>
                  <a:pt x="13445" y="8854"/>
                  <a:pt x="13498" y="8874"/>
                </a:cubicBezTo>
                <a:cubicBezTo>
                  <a:pt x="13505" y="8877"/>
                  <a:pt x="13502" y="8869"/>
                  <a:pt x="13509" y="8873"/>
                </a:cubicBezTo>
                <a:cubicBezTo>
                  <a:pt x="13522" y="8880"/>
                  <a:pt x="13514" y="8901"/>
                  <a:pt x="13524" y="8908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45000" y="4284720"/>
            <a:ext cx="147600" cy="969840"/>
          </a:xfrm>
          <a:custGeom>
            <a:avLst/>
            <a:gdLst/>
            <a:ahLst/>
            <a:rect l="l" t="t" r="r" b="b"/>
            <a:pathLst>
              <a:path w="408" h="2695">
                <a:moveTo>
                  <a:pt x="12741" y="11903"/>
                </a:moveTo>
                <a:cubicBezTo>
                  <a:pt x="12745" y="11905"/>
                  <a:pt x="12744" y="11904"/>
                  <a:pt x="12748" y="11906"/>
                </a:cubicBezTo>
                <a:cubicBezTo>
                  <a:pt x="12759" y="11912"/>
                  <a:pt x="12770" y="11917"/>
                  <a:pt x="12782" y="11923"/>
                </a:cubicBezTo>
                <a:cubicBezTo>
                  <a:pt x="12809" y="11935"/>
                  <a:pt x="12835" y="11945"/>
                  <a:pt x="12863" y="11953"/>
                </a:cubicBezTo>
                <a:cubicBezTo>
                  <a:pt x="12894" y="11961"/>
                  <a:pt x="12924" y="11967"/>
                  <a:pt x="12956" y="11970"/>
                </a:cubicBezTo>
                <a:cubicBezTo>
                  <a:pt x="12970" y="11971"/>
                  <a:pt x="12988" y="11973"/>
                  <a:pt x="13001" y="11967"/>
                </a:cubicBezTo>
                <a:cubicBezTo>
                  <a:pt x="13005" y="11965"/>
                  <a:pt x="13007" y="11965"/>
                  <a:pt x="13006" y="11962"/>
                </a:cubicBezTo>
                <a:cubicBezTo>
                  <a:pt x="12989" y="11960"/>
                  <a:pt x="12996" y="11961"/>
                  <a:pt x="12977" y="11965"/>
                </a:cubicBezTo>
              </a:path>
              <a:path w="408" h="2695">
                <a:moveTo>
                  <a:pt x="12715" y="12052"/>
                </a:moveTo>
                <a:cubicBezTo>
                  <a:pt x="12714" y="12057"/>
                  <a:pt x="12704" y="12070"/>
                  <a:pt x="12703" y="12080"/>
                </a:cubicBezTo>
                <a:cubicBezTo>
                  <a:pt x="12698" y="12117"/>
                  <a:pt x="12701" y="12154"/>
                  <a:pt x="12701" y="12192"/>
                </a:cubicBezTo>
                <a:cubicBezTo>
                  <a:pt x="12701" y="12319"/>
                  <a:pt x="12697" y="12446"/>
                  <a:pt x="12689" y="12573"/>
                </a:cubicBezTo>
                <a:cubicBezTo>
                  <a:pt x="12682" y="12677"/>
                  <a:pt x="12684" y="12782"/>
                  <a:pt x="12674" y="12886"/>
                </a:cubicBezTo>
                <a:cubicBezTo>
                  <a:pt x="12666" y="12969"/>
                  <a:pt x="12655" y="13052"/>
                  <a:pt x="12646" y="13135"/>
                </a:cubicBezTo>
                <a:cubicBezTo>
                  <a:pt x="12634" y="13244"/>
                  <a:pt x="12615" y="13356"/>
                  <a:pt x="12628" y="13466"/>
                </a:cubicBezTo>
                <a:cubicBezTo>
                  <a:pt x="12633" y="13510"/>
                  <a:pt x="12645" y="13556"/>
                  <a:pt x="12655" y="13599"/>
                </a:cubicBezTo>
                <a:cubicBezTo>
                  <a:pt x="12665" y="13641"/>
                  <a:pt x="12681" y="13681"/>
                  <a:pt x="12689" y="13723"/>
                </a:cubicBezTo>
                <a:cubicBezTo>
                  <a:pt x="12718" y="13881"/>
                  <a:pt x="12707" y="14052"/>
                  <a:pt x="12715" y="14212"/>
                </a:cubicBezTo>
                <a:cubicBezTo>
                  <a:pt x="12718" y="14276"/>
                  <a:pt x="12713" y="14343"/>
                  <a:pt x="12723" y="14406"/>
                </a:cubicBezTo>
                <a:cubicBezTo>
                  <a:pt x="12727" y="14433"/>
                  <a:pt x="12737" y="14458"/>
                  <a:pt x="12741" y="14485"/>
                </a:cubicBezTo>
                <a:cubicBezTo>
                  <a:pt x="12744" y="14506"/>
                  <a:pt x="12745" y="14526"/>
                  <a:pt x="12751" y="14546"/>
                </a:cubicBezTo>
                <a:cubicBezTo>
                  <a:pt x="12755" y="14560"/>
                  <a:pt x="12763" y="14575"/>
                  <a:pt x="12768" y="14589"/>
                </a:cubicBezTo>
                <a:cubicBezTo>
                  <a:pt x="12775" y="14587"/>
                  <a:pt x="12764" y="14579"/>
                  <a:pt x="12771" y="14578"/>
                </a:cubicBezTo>
                <a:cubicBezTo>
                  <a:pt x="12775" y="14577"/>
                  <a:pt x="12774" y="14572"/>
                  <a:pt x="12783" y="14572"/>
                </a:cubicBezTo>
                <a:cubicBezTo>
                  <a:pt x="12792" y="14572"/>
                  <a:pt x="12799" y="14574"/>
                  <a:pt x="12808" y="14574"/>
                </a:cubicBezTo>
                <a:cubicBezTo>
                  <a:pt x="12820" y="14575"/>
                  <a:pt x="12834" y="14582"/>
                  <a:pt x="12846" y="14583"/>
                </a:cubicBezTo>
                <a:cubicBezTo>
                  <a:pt x="12888" y="14587"/>
                  <a:pt x="12948" y="14565"/>
                  <a:pt x="12985" y="14572"/>
                </a:cubicBezTo>
                <a:cubicBezTo>
                  <a:pt x="12993" y="14574"/>
                  <a:pt x="13001" y="14576"/>
                  <a:pt x="13009" y="14578"/>
                </a:cubicBezTo>
                <a:cubicBezTo>
                  <a:pt x="13020" y="14580"/>
                  <a:pt x="13022" y="14589"/>
                  <a:pt x="13032" y="14592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Plan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the plan that will be executed if the beliefs change (e.g., values of events, plans, treat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the plan to handle each 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the plan to handle meta-level reasoning o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262480" y="1341360"/>
            <a:ext cx="295920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GR Model in Jadex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9960" y="1295280"/>
          <a:ext cx="399888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295280"/>
                    <a:ext cx="399888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745160" y="1295280"/>
          <a:ext cx="3997080" cy="518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5160" y="1295280"/>
                    <a:ext cx="399708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Note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 reaso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Done at the beginning when an agent desires to achieve a particular goa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Define the overall plans that must be executed considering the risks (also costs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iberation process in Jad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ecuted each time there is an alternativ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The overall plans is not predefined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cluding Remarks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ropos Goal-Risk framework, which consists of a modeling framework and reasoning mechanisms implemented in Agent Platform, namely Jade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mitations in Jadex does not limit the expressiveness of the intended goal deliberation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Definition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 agen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nything that can be viewed 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ceivin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s environment throug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nsor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ctin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on that environment throug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ffec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ational agen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do the action to achieve its goals wit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aximized its performance mea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idence, past experience, or belief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built-in knowledg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 intelligent ag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one that is capable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lexible autonom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ction in order to achieve its goa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reactivity: able to perceive their environment and response it;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ro-activeness: able to exhibit goal-directed behavior by taking an initiative;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ocial ability: capable to interact with other agents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Motivation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nt has proved to be useful in critical systems because o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mple to Model Agent, in terms of its Mental State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Belief-Desire-Intention (BDI) [Rao 91]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2" marL="1143000" indent="-22860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Belief-Choice-Capability-Obligation [Shoam 93]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Behave Autonomously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Deliberation process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 safety-critical mission, an agent can replace a human inst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.g., reconnaissance, combat-mission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ase Study - Unmanned Aerial Vehicle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ircraft without pilot, that either is controlled remotely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lies autonomous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for decoy, reconnaissance, combat, and even for research and civil purpo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empts to use intelligent agents in managing UA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void the risk of human life los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response event autonomously w/o waiting the ground control command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take countermeasures to minimize malicious event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uman pilot can react-learn instantaneously and als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anticipate future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Objectives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ate Goal Risk analysis into an agent implementation platfor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n agent can reason and anticipate future event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ble to model agent mental state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E.g., BDI model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ble to perform reasoning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tandard” Agent Platform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BDI Architecture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DI concept [Bratmann 87] is well recognized in the philosophical and AI to model behaviors of a rational ag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apted into a formal model such that is more suitable for the further implementation in terms of software agents [Rao 91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i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nformation of the state of the world that is believed to be tru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re (or Go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tate of the world that an agent is trying to achiev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n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eans to achieve the agent's desires (i.e., represented as plans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BDI Architecture (2)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iberation process is realized by a Meta-Level reason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used to choose the most proper means to achieve a 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elief-based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redefined-rule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5473440" cy="3629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227640" y="6093000"/>
            <a:ext cx="1258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Rao 9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ropos Goal Risk Framework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e layers of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Goal layer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Strategic interests of an agent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3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als and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vent layer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Uncertain circumstance that effects goal layer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3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eatment layer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To treat the effects of event layer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3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eat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ND/OR Decomposi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ontribu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ans-end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743360" y="1295280"/>
          <a:ext cx="399888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3360" y="1295280"/>
                    <a:ext cx="399888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16360" y="1268280"/>
            <a:ext cx="3743280" cy="331308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4653000"/>
            <a:ext cx="4105440" cy="108108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5805360"/>
            <a:ext cx="3743640" cy="72072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89560" y="1577880"/>
            <a:ext cx="1449360" cy="1020960"/>
          </a:xfrm>
          <a:custGeom>
            <a:avLst/>
            <a:gdLst/>
            <a:ahLst/>
            <a:rect l="l" t="t" r="r" b="b"/>
            <a:pathLst>
              <a:path w="4025" h="2836">
                <a:moveTo>
                  <a:pt x="19257" y="4571"/>
                </a:moveTo>
                <a:cubicBezTo>
                  <a:pt x="19060" y="4468"/>
                  <a:pt x="18870" y="4360"/>
                  <a:pt x="18638" y="4388"/>
                </a:cubicBezTo>
                <a:cubicBezTo>
                  <a:pt x="18574" y="4396"/>
                  <a:pt x="18509" y="4415"/>
                  <a:pt x="18448" y="4433"/>
                </a:cubicBezTo>
                <a:cubicBezTo>
                  <a:pt x="18377" y="4454"/>
                  <a:pt x="18306" y="4480"/>
                  <a:pt x="18236" y="4505"/>
                </a:cubicBezTo>
                <a:cubicBezTo>
                  <a:pt x="18044" y="4572"/>
                  <a:pt x="17847" y="4635"/>
                  <a:pt x="17676" y="4747"/>
                </a:cubicBezTo>
                <a:cubicBezTo>
                  <a:pt x="17602" y="4796"/>
                  <a:pt x="17519" y="4854"/>
                  <a:pt x="17488" y="4942"/>
                </a:cubicBezTo>
                <a:cubicBezTo>
                  <a:pt x="17474" y="4981"/>
                  <a:pt x="17473" y="5020"/>
                  <a:pt x="17471" y="5061"/>
                </a:cubicBezTo>
                <a:cubicBezTo>
                  <a:pt x="17464" y="5203"/>
                  <a:pt x="17466" y="5362"/>
                  <a:pt x="17485" y="5503"/>
                </a:cubicBezTo>
                <a:cubicBezTo>
                  <a:pt x="17500" y="5613"/>
                  <a:pt x="17558" y="5681"/>
                  <a:pt x="17645" y="5745"/>
                </a:cubicBezTo>
                <a:cubicBezTo>
                  <a:pt x="17909" y="5940"/>
                  <a:pt x="18269" y="5961"/>
                  <a:pt x="18584" y="5913"/>
                </a:cubicBezTo>
                <a:cubicBezTo>
                  <a:pt x="18873" y="5870"/>
                  <a:pt x="19228" y="5804"/>
                  <a:pt x="19490" y="5671"/>
                </a:cubicBezTo>
                <a:cubicBezTo>
                  <a:pt x="19574" y="5628"/>
                  <a:pt x="19629" y="5567"/>
                  <a:pt x="19670" y="5483"/>
                </a:cubicBezTo>
                <a:cubicBezTo>
                  <a:pt x="19698" y="5426"/>
                  <a:pt x="19721" y="5361"/>
                  <a:pt x="19726" y="5297"/>
                </a:cubicBezTo>
                <a:cubicBezTo>
                  <a:pt x="19739" y="5129"/>
                  <a:pt x="19612" y="4982"/>
                  <a:pt x="19524" y="4851"/>
                </a:cubicBezTo>
                <a:cubicBezTo>
                  <a:pt x="19412" y="4686"/>
                  <a:pt x="19303" y="4588"/>
                  <a:pt x="19109" y="4526"/>
                </a:cubicBezTo>
                <a:cubicBezTo>
                  <a:pt x="19014" y="4495"/>
                  <a:pt x="18907" y="4467"/>
                  <a:pt x="18807" y="4467"/>
                </a:cubicBezTo>
                <a:cubicBezTo>
                  <a:pt x="18769" y="4467"/>
                  <a:pt x="18742" y="4479"/>
                  <a:pt x="18707" y="4487"/>
                </a:cubicBezTo>
              </a:path>
              <a:path w="4025" h="2836">
                <a:moveTo>
                  <a:pt x="21044" y="6185"/>
                </a:moveTo>
                <a:cubicBezTo>
                  <a:pt x="21005" y="6182"/>
                  <a:pt x="20967" y="6178"/>
                  <a:pt x="20928" y="6175"/>
                </a:cubicBezTo>
                <a:cubicBezTo>
                  <a:pt x="20889" y="6172"/>
                  <a:pt x="20850" y="6172"/>
                  <a:pt x="20811" y="6170"/>
                </a:cubicBezTo>
                <a:cubicBezTo>
                  <a:pt x="20772" y="6168"/>
                  <a:pt x="20733" y="6163"/>
                  <a:pt x="20694" y="6157"/>
                </a:cubicBezTo>
                <a:cubicBezTo>
                  <a:pt x="20653" y="6150"/>
                  <a:pt x="20614" y="6139"/>
                  <a:pt x="20572" y="6138"/>
                </a:cubicBezTo>
                <a:cubicBezTo>
                  <a:pt x="20468" y="6136"/>
                  <a:pt x="20383" y="6181"/>
                  <a:pt x="20296" y="6230"/>
                </a:cubicBezTo>
                <a:cubicBezTo>
                  <a:pt x="20209" y="6279"/>
                  <a:pt x="20138" y="6329"/>
                  <a:pt x="20072" y="6403"/>
                </a:cubicBezTo>
                <a:cubicBezTo>
                  <a:pt x="20047" y="6431"/>
                  <a:pt x="20023" y="6460"/>
                  <a:pt x="19999" y="6489"/>
                </a:cubicBezTo>
                <a:cubicBezTo>
                  <a:pt x="19927" y="6576"/>
                  <a:pt x="19906" y="6640"/>
                  <a:pt x="19939" y="6749"/>
                </a:cubicBezTo>
                <a:cubicBezTo>
                  <a:pt x="19952" y="6793"/>
                  <a:pt x="19968" y="6837"/>
                  <a:pt x="19987" y="6879"/>
                </a:cubicBezTo>
                <a:cubicBezTo>
                  <a:pt x="20039" y="6994"/>
                  <a:pt x="20153" y="7092"/>
                  <a:pt x="20261" y="7154"/>
                </a:cubicBezTo>
                <a:cubicBezTo>
                  <a:pt x="20368" y="7215"/>
                  <a:pt x="20490" y="7228"/>
                  <a:pt x="20611" y="7212"/>
                </a:cubicBezTo>
                <a:cubicBezTo>
                  <a:pt x="20751" y="7194"/>
                  <a:pt x="20891" y="7144"/>
                  <a:pt x="21024" y="7098"/>
                </a:cubicBezTo>
                <a:cubicBezTo>
                  <a:pt x="21090" y="7075"/>
                  <a:pt x="21155" y="7049"/>
                  <a:pt x="21216" y="7016"/>
                </a:cubicBezTo>
                <a:cubicBezTo>
                  <a:pt x="21280" y="6982"/>
                  <a:pt x="21336" y="6940"/>
                  <a:pt x="21381" y="6883"/>
                </a:cubicBezTo>
                <a:cubicBezTo>
                  <a:pt x="21408" y="6849"/>
                  <a:pt x="21422" y="6811"/>
                  <a:pt x="21440" y="6773"/>
                </a:cubicBezTo>
                <a:cubicBezTo>
                  <a:pt x="21462" y="6726"/>
                  <a:pt x="21478" y="6684"/>
                  <a:pt x="21487" y="6632"/>
                </a:cubicBezTo>
                <a:cubicBezTo>
                  <a:pt x="21508" y="6514"/>
                  <a:pt x="21482" y="6400"/>
                  <a:pt x="21410" y="6304"/>
                </a:cubicBezTo>
                <a:cubicBezTo>
                  <a:pt x="21361" y="6239"/>
                  <a:pt x="21291" y="6191"/>
                  <a:pt x="21221" y="6150"/>
                </a:cubicBezTo>
                <a:cubicBezTo>
                  <a:pt x="21131" y="6098"/>
                  <a:pt x="21006" y="6041"/>
                  <a:pt x="20899" y="6053"/>
                </a:cubicBezTo>
                <a:cubicBezTo>
                  <a:pt x="20868" y="6056"/>
                  <a:pt x="20836" y="6071"/>
                  <a:pt x="20806" y="6079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38920" y="2806560"/>
            <a:ext cx="784080" cy="571680"/>
          </a:xfrm>
          <a:custGeom>
            <a:avLst/>
            <a:gdLst/>
            <a:ahLst/>
            <a:rect l="l" t="t" r="r" b="b"/>
            <a:pathLst>
              <a:path w="2182" h="1587">
                <a:moveTo>
                  <a:pt x="16521" y="9028"/>
                </a:moveTo>
                <a:cubicBezTo>
                  <a:pt x="16523" y="9021"/>
                  <a:pt x="16510" y="9031"/>
                  <a:pt x="16513" y="9024"/>
                </a:cubicBezTo>
                <a:cubicBezTo>
                  <a:pt x="16547" y="8935"/>
                  <a:pt x="16618" y="8860"/>
                  <a:pt x="16684" y="8792"/>
                </a:cubicBezTo>
                <a:cubicBezTo>
                  <a:pt x="16824" y="8648"/>
                  <a:pt x="16988" y="8553"/>
                  <a:pt x="17153" y="8443"/>
                </a:cubicBezTo>
                <a:cubicBezTo>
                  <a:pt x="17226" y="8395"/>
                  <a:pt x="17294" y="8343"/>
                  <a:pt x="17357" y="8283"/>
                </a:cubicBezTo>
                <a:cubicBezTo>
                  <a:pt x="17407" y="8236"/>
                  <a:pt x="17455" y="8185"/>
                  <a:pt x="17505" y="8138"/>
                </a:cubicBezTo>
                <a:cubicBezTo>
                  <a:pt x="17574" y="8073"/>
                  <a:pt x="17648" y="8010"/>
                  <a:pt x="17727" y="7957"/>
                </a:cubicBezTo>
                <a:cubicBezTo>
                  <a:pt x="17826" y="7891"/>
                  <a:pt x="17954" y="7861"/>
                  <a:pt x="18066" y="7825"/>
                </a:cubicBezTo>
                <a:cubicBezTo>
                  <a:pt x="18145" y="7799"/>
                  <a:pt x="18215" y="7798"/>
                  <a:pt x="18297" y="7800"/>
                </a:cubicBezTo>
                <a:cubicBezTo>
                  <a:pt x="18378" y="7802"/>
                  <a:pt x="18435" y="7822"/>
                  <a:pt x="18510" y="7848"/>
                </a:cubicBezTo>
                <a:cubicBezTo>
                  <a:pt x="18581" y="7873"/>
                  <a:pt x="18652" y="7886"/>
                  <a:pt x="18673" y="7965"/>
                </a:cubicBezTo>
                <a:cubicBezTo>
                  <a:pt x="18687" y="8016"/>
                  <a:pt x="18673" y="8081"/>
                  <a:pt x="18664" y="8131"/>
                </a:cubicBezTo>
                <a:cubicBezTo>
                  <a:pt x="18649" y="8220"/>
                  <a:pt x="18626" y="8318"/>
                  <a:pt x="18579" y="8396"/>
                </a:cubicBezTo>
                <a:cubicBezTo>
                  <a:pt x="18556" y="8433"/>
                  <a:pt x="18526" y="8470"/>
                  <a:pt x="18500" y="8504"/>
                </a:cubicBezTo>
                <a:cubicBezTo>
                  <a:pt x="18476" y="8535"/>
                  <a:pt x="18455" y="8570"/>
                  <a:pt x="18431" y="8599"/>
                </a:cubicBezTo>
                <a:cubicBezTo>
                  <a:pt x="18390" y="8649"/>
                  <a:pt x="18342" y="8693"/>
                  <a:pt x="18294" y="8736"/>
                </a:cubicBezTo>
                <a:cubicBezTo>
                  <a:pt x="18207" y="8815"/>
                  <a:pt x="18109" y="8894"/>
                  <a:pt x="18005" y="8950"/>
                </a:cubicBezTo>
                <a:cubicBezTo>
                  <a:pt x="17913" y="9000"/>
                  <a:pt x="17812" y="9030"/>
                  <a:pt x="17715" y="9068"/>
                </a:cubicBezTo>
                <a:cubicBezTo>
                  <a:pt x="17626" y="9103"/>
                  <a:pt x="17550" y="9143"/>
                  <a:pt x="17473" y="9199"/>
                </a:cubicBezTo>
                <a:cubicBezTo>
                  <a:pt x="17408" y="9246"/>
                  <a:pt x="17354" y="9302"/>
                  <a:pt x="17279" y="9334"/>
                </a:cubicBezTo>
                <a:cubicBezTo>
                  <a:pt x="17196" y="9370"/>
                  <a:pt x="17089" y="9388"/>
                  <a:pt x="16999" y="9382"/>
                </a:cubicBezTo>
                <a:cubicBezTo>
                  <a:pt x="16920" y="9377"/>
                  <a:pt x="16846" y="9368"/>
                  <a:pt x="16767" y="9366"/>
                </a:cubicBezTo>
                <a:cubicBezTo>
                  <a:pt x="16686" y="9364"/>
                  <a:pt x="16633" y="9336"/>
                  <a:pt x="16574" y="9280"/>
                </a:cubicBezTo>
                <a:cubicBezTo>
                  <a:pt x="16533" y="9241"/>
                  <a:pt x="16510" y="9204"/>
                  <a:pt x="16498" y="9150"/>
                </a:cubicBezTo>
                <a:cubicBezTo>
                  <a:pt x="16489" y="9105"/>
                  <a:pt x="16490" y="9044"/>
                  <a:pt x="16518" y="9007"/>
                </a:cubicBezTo>
                <a:cubicBezTo>
                  <a:pt x="16534" y="8986"/>
                  <a:pt x="16554" y="8969"/>
                  <a:pt x="16577" y="8958"/>
                </a:cubicBezTo>
                <a:cubicBezTo>
                  <a:pt x="16604" y="8944"/>
                  <a:pt x="16635" y="8943"/>
                  <a:pt x="16664" y="8934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81920" y="4175280"/>
            <a:ext cx="473040" cy="1188720"/>
          </a:xfrm>
          <a:custGeom>
            <a:avLst/>
            <a:gdLst/>
            <a:ahLst/>
            <a:rect l="l" t="t" r="r" b="b"/>
            <a:pathLst>
              <a:path w="1314" h="3304">
                <a:moveTo>
                  <a:pt x="22478" y="11664"/>
                </a:moveTo>
                <a:cubicBezTo>
                  <a:pt x="22383" y="11663"/>
                  <a:pt x="22344" y="11657"/>
                  <a:pt x="22277" y="11744"/>
                </a:cubicBezTo>
                <a:cubicBezTo>
                  <a:pt x="22127" y="11939"/>
                  <a:pt x="22170" y="12251"/>
                  <a:pt x="22187" y="12479"/>
                </a:cubicBezTo>
                <a:cubicBezTo>
                  <a:pt x="22197" y="12612"/>
                  <a:pt x="22211" y="12747"/>
                  <a:pt x="22231" y="12879"/>
                </a:cubicBezTo>
                <a:cubicBezTo>
                  <a:pt x="22252" y="13015"/>
                  <a:pt x="22291" y="13148"/>
                  <a:pt x="22318" y="13283"/>
                </a:cubicBezTo>
                <a:cubicBezTo>
                  <a:pt x="22349" y="13435"/>
                  <a:pt x="22414" y="13568"/>
                  <a:pt x="22453" y="13717"/>
                </a:cubicBezTo>
                <a:cubicBezTo>
                  <a:pt x="22493" y="13870"/>
                  <a:pt x="22511" y="14026"/>
                  <a:pt x="22563" y="14177"/>
                </a:cubicBezTo>
                <a:cubicBezTo>
                  <a:pt x="22603" y="14294"/>
                  <a:pt x="22667" y="14414"/>
                  <a:pt x="22731" y="14519"/>
                </a:cubicBezTo>
                <a:cubicBezTo>
                  <a:pt x="22787" y="14611"/>
                  <a:pt x="22868" y="14672"/>
                  <a:pt x="22942" y="14747"/>
                </a:cubicBezTo>
                <a:cubicBezTo>
                  <a:pt x="22985" y="14791"/>
                  <a:pt x="23019" y="14828"/>
                  <a:pt x="23073" y="14860"/>
                </a:cubicBezTo>
                <a:cubicBezTo>
                  <a:pt x="23131" y="14894"/>
                  <a:pt x="23170" y="14907"/>
                  <a:pt x="23233" y="14880"/>
                </a:cubicBezTo>
                <a:cubicBezTo>
                  <a:pt x="23268" y="14865"/>
                  <a:pt x="23293" y="14834"/>
                  <a:pt x="23319" y="14808"/>
                </a:cubicBezTo>
                <a:cubicBezTo>
                  <a:pt x="23353" y="14774"/>
                  <a:pt x="23387" y="14737"/>
                  <a:pt x="23407" y="14695"/>
                </a:cubicBezTo>
                <a:cubicBezTo>
                  <a:pt x="23428" y="14652"/>
                  <a:pt x="23439" y="14600"/>
                  <a:pt x="23453" y="14554"/>
                </a:cubicBezTo>
                <a:cubicBezTo>
                  <a:pt x="23478" y="14475"/>
                  <a:pt x="23487" y="14401"/>
                  <a:pt x="23486" y="14318"/>
                </a:cubicBezTo>
                <a:cubicBezTo>
                  <a:pt x="23484" y="14140"/>
                  <a:pt x="23456" y="13960"/>
                  <a:pt x="23447" y="13781"/>
                </a:cubicBezTo>
                <a:cubicBezTo>
                  <a:pt x="23436" y="13566"/>
                  <a:pt x="23359" y="13358"/>
                  <a:pt x="23317" y="13148"/>
                </a:cubicBezTo>
                <a:cubicBezTo>
                  <a:pt x="23303" y="13076"/>
                  <a:pt x="23287" y="13004"/>
                  <a:pt x="23270" y="12933"/>
                </a:cubicBezTo>
                <a:cubicBezTo>
                  <a:pt x="23215" y="12704"/>
                  <a:pt x="23142" y="12449"/>
                  <a:pt x="23012" y="12250"/>
                </a:cubicBezTo>
                <a:cubicBezTo>
                  <a:pt x="22962" y="12173"/>
                  <a:pt x="22900" y="12106"/>
                  <a:pt x="22849" y="12029"/>
                </a:cubicBezTo>
                <a:cubicBezTo>
                  <a:pt x="22800" y="11954"/>
                  <a:pt x="22756" y="11874"/>
                  <a:pt x="22712" y="11796"/>
                </a:cubicBezTo>
                <a:cubicBezTo>
                  <a:pt x="22685" y="11748"/>
                  <a:pt x="22664" y="11698"/>
                  <a:pt x="22638" y="11650"/>
                </a:cubicBezTo>
                <a:cubicBezTo>
                  <a:pt x="22629" y="11633"/>
                  <a:pt x="22620" y="11611"/>
                  <a:pt x="22610" y="11597"/>
                </a:cubicBezTo>
                <a:cubicBezTo>
                  <a:pt x="22606" y="11592"/>
                  <a:pt x="22613" y="11609"/>
                  <a:pt x="22609" y="11604"/>
                </a:cubicBezTo>
                <a:cubicBezTo>
                  <a:pt x="22607" y="11601"/>
                  <a:pt x="22605" y="11605"/>
                  <a:pt x="22603" y="11601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1:49:56Z</dcterms:created>
  <dc:creator>yudis asnar</dc:creator>
  <dc:description/>
  <dc:language>en-US</dc:language>
  <cp:lastModifiedBy>yudis asnar</cp:lastModifiedBy>
  <dcterms:modified xsi:type="dcterms:W3CDTF">2006-12-07T08:39:28Z</dcterms:modified>
  <cp:revision>198</cp:revision>
  <dc:subject/>
  <dc:title>A Risk-Driven Approach  for Goal Deliberation</dc:title>
</cp:coreProperties>
</file>