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FCA-8A91-4298-B77C-CB9B1DE9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8AA1-98E5-4796-BC50-80CD4A50A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257-1FDC-47AD-BFAE-0A50AC45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0FA1-A591-4F93-A158-1760070DA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3CD5A-9922-4C98-BF0F-7AC0A9A3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223E-BBC4-45E5-B072-39653CD5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5366-8481-4E93-91C0-58638773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4BF3E-3B5D-4A5B-A217-CAC83F2C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5EE5E-D8C5-418E-816F-BDF3C98F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13CCD-2DEA-4C3A-84E4-50165C3B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0DC6E-04A9-48C4-8AA0-3C0F31FD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58B8-5AE6-4C08-AF88-170FD3BD6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3DBF9-3C0C-456C-BB37-1E989D34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EEB3-942D-422C-B590-42592F0B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AF50F-8686-42DA-98C0-66F22208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F884C-776A-4C5A-8A91-72D33BF1E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2E09C-7F80-488B-85A7-DACB8444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6BA-432F-4221-8756-96B0DC95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DBAF-46B6-4BD9-A8DB-BA61C45E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BD0A-A761-4967-B1EC-5A1E4D61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821E-432D-4D6A-95B3-E8DD874C8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822E-B094-4B17-975A-9C65768D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17161-C2A4-424D-9DE0-16B296CA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1554-9ED9-4B57-908D-F0441507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5E34-9C4F-4274-AF50-2B296E86826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B6C6A-AF16-4CCA-A660-B7430E5896F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Designing Agent Societies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lha B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D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CT, 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yl@dit.unitn.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Acti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a – actor, g – go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precondi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satisfy (a, g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s (a, g)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e (g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(wants(a,g)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  done (g – goal) is an additional predicate which means “goal g is satisfied, no one wants it anymore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Acti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 – actor, g – goal, g1 – goal, g2 – go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_be_decomposed (g, g1, g2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 (a, g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(a,g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s(a,g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(wants(a,g)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an be extended to more than two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Action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1 – actor, g – goal, a1 – act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_depend_on (a1, a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 (a1, g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ff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s(a2, 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(wants(a1, g)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Intuition (1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557600" y="3635280"/>
            <a:ext cx="28800" cy="190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557600" y="3635280"/>
            <a:ext cx="28800" cy="19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557600" y="3635280"/>
            <a:ext cx="28800" cy="190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4716360" y="1844640"/>
            <a:ext cx="3616560" cy="367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126600" y="342900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268800" y="3357720"/>
            <a:ext cx="93636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341520" y="3284640"/>
            <a:ext cx="86364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800" y="2349360"/>
            <a:ext cx="315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omposes (A, G, G1, 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3080" y="407664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33080" y="458136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1268280"/>
            <a:ext cx="835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pag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grap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imin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Intuition (2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203640" y="3789360"/>
            <a:ext cx="2519280" cy="22496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228720" y="429408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70560" y="4222800"/>
            <a:ext cx="936720" cy="576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443640" y="4149720"/>
            <a:ext cx="86364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73080" y="494172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ne (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12720" y="4510080"/>
            <a:ext cx="180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atisfie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1252440"/>
            <a:ext cx="8353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a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pag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rough the graph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e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eliminated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becom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708360" y="1700280"/>
            <a:ext cx="4680000" cy="1542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709440" y="3068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A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17760" y="3068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nts (B, 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851280" y="2997360"/>
            <a:ext cx="936720" cy="576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924360" y="2924280"/>
            <a:ext cx="863640" cy="72072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70280" y="220356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sses (G, A,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. Informal form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"/>
          <p:cNvSpPr/>
          <p:nvPr/>
        </p:nvSpPr>
        <p:spPr>
          <a:xfrm>
            <a:off x="1065240" y="213372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360" y="3573360"/>
            <a:ext cx="1584360" cy="609840"/>
          </a:xfrm>
          <a:prstGeom prst="wedgeRoundRectCallout">
            <a:avLst>
              <a:gd name="adj1" fmla="val -70939"/>
              <a:gd name="adj2" fmla="val -104689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buy a ti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1484280"/>
            <a:ext cx="2089080" cy="609480"/>
          </a:xfrm>
          <a:prstGeom prst="wedgeRectCallout">
            <a:avLst>
              <a:gd name="adj1" fmla="val -47263"/>
              <a:gd name="adj2" fmla="val 7005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want to go to the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00360" y="2421000"/>
            <a:ext cx="25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go there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y a ticket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imbu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32560" y="321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40560" y="321300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00920" y="25639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6920" y="3068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19600" y="43578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ounting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4365720"/>
            <a:ext cx="1512720" cy="1295280"/>
          </a:xfrm>
          <a:prstGeom prst="wedgeRoundRectCallout">
            <a:avLst>
              <a:gd name="adj1" fmla="val 29435"/>
              <a:gd name="adj2" fmla="val -135537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ask accounting office for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80000" y="1628640"/>
            <a:ext cx="2665440" cy="609840"/>
          </a:xfrm>
          <a:prstGeom prst="wedgeRoundRectCallout">
            <a:avLst>
              <a:gd name="adj1" fmla="val -5449"/>
              <a:gd name="adj2" fmla="val 17474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can help to get the reimburse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. PDDL formula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fin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problem example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domai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tropos-domain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objects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Professor Accounting_office - t_actor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Go_to_conference Get_reimbursement Buy_ticket - t_goal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goal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(and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done Go_to_conference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)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(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init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can_do Accounting_office Get_reimbursement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can_do Professor Buy_ticket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can_depend_on Professor Accounting_office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wants Professor Go_to_conference 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    (and_subgoal2 Go_to_conference Buy_ticket Get_reimbursement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     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. Using the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4978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. Using the too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424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ample. Solu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704000" cy="36338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4581360"/>
            <a:ext cx="3058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professor,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o-to-conferen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-ticke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-reimbursement]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profess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y-ticke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45760" y="4005360"/>
            <a:ext cx="2165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professor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-reimbursement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unting-offic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84720" y="4941720"/>
            <a:ext cx="2829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accounting-offic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-reimbursement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t Society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"/>
          <p:cNvSpPr/>
          <p:nvPr/>
        </p:nvSpPr>
        <p:spPr>
          <a:xfrm>
            <a:off x="1258920" y="227664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42920" y="3213000"/>
            <a:ext cx="1440000" cy="792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3419640" y="1414440"/>
            <a:ext cx="1008000" cy="1006560"/>
            <a:chOff x="3419640" y="1414440"/>
            <a:chExt cx="1008000" cy="1006560"/>
          </a:xfrm>
        </p:grpSpPr>
        <p:sp>
          <p:nvSpPr>
            <p:cNvPr id="92" name=""/>
            <p:cNvSpPr/>
            <p:nvPr/>
          </p:nvSpPr>
          <p:spPr>
            <a:xfrm>
              <a:off x="3706920" y="141444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419640" y="191772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356000" y="2492280"/>
            <a:ext cx="1008000" cy="1006560"/>
            <a:chOff x="4356000" y="2492280"/>
            <a:chExt cx="1008000" cy="1006560"/>
          </a:xfrm>
        </p:grpSpPr>
        <p:sp>
          <p:nvSpPr>
            <p:cNvPr id="95" name=""/>
            <p:cNvSpPr/>
            <p:nvPr/>
          </p:nvSpPr>
          <p:spPr>
            <a:xfrm>
              <a:off x="4643280" y="249228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356000" y="299556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4284720" y="3933720"/>
            <a:ext cx="1008000" cy="1006560"/>
            <a:chOff x="4284720" y="3933720"/>
            <a:chExt cx="1008000" cy="1006560"/>
          </a:xfrm>
        </p:grpSpPr>
        <p:sp>
          <p:nvSpPr>
            <p:cNvPr id="98" name=""/>
            <p:cNvSpPr/>
            <p:nvPr/>
          </p:nvSpPr>
          <p:spPr>
            <a:xfrm>
              <a:off x="4572000" y="393372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284720" y="443700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987640" y="4727520"/>
            <a:ext cx="1008000" cy="1006560"/>
            <a:chOff x="2987640" y="4727520"/>
            <a:chExt cx="1008000" cy="1006560"/>
          </a:xfrm>
        </p:grpSpPr>
        <p:sp>
          <p:nvSpPr>
            <p:cNvPr id="101" name=""/>
            <p:cNvSpPr/>
            <p:nvPr/>
          </p:nvSpPr>
          <p:spPr>
            <a:xfrm>
              <a:off x="3274920" y="4727520"/>
              <a:ext cx="432000" cy="431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987640" y="5230800"/>
              <a:ext cx="1008000" cy="503280"/>
            </a:xfrm>
            <a:prstGeom prst="bracketPair">
              <a:avLst>
                <a:gd name="adj" fmla="val 1712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5724360" y="1125360"/>
            <a:ext cx="29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collaboration (throug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eg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22920" y="191628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competitive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/>
          <p:nvPr/>
        </p:nvCxnSpPr>
        <p:spPr>
          <a:xfrm>
            <a:off x="2339640" y="2924280"/>
            <a:ext cx="2088360" cy="1010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/>
          <p:nvPr/>
        </p:nvCxnSpPr>
        <p:spPr>
          <a:xfrm>
            <a:off x="2340000" y="2707920"/>
            <a:ext cx="216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7" name=""/>
          <p:cNvCxnSpPr/>
          <p:nvPr/>
        </p:nvCxnSpPr>
        <p:spPr>
          <a:xfrm flipV="1">
            <a:off x="2410920" y="1627920"/>
            <a:ext cx="108180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8" name=""/>
          <p:cNvCxnSpPr>
            <a:stCxn id="90" idx="2"/>
          </p:cNvCxnSpPr>
          <p:nvPr/>
        </p:nvCxnSpPr>
        <p:spPr>
          <a:xfrm>
            <a:off x="1763280" y="40050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/>
          <p:nvPr/>
        </p:nvCxnSpPr>
        <p:spPr>
          <a:xfrm flipH="1" flipV="1">
            <a:off x="2267640" y="5083920"/>
            <a:ext cx="57564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1476360" y="4508640"/>
            <a:ext cx="698400" cy="64764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796000" y="3357720"/>
            <a:ext cx="309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ety member’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use others capabilities to achieve personal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/>
          <p:nvPr/>
        </p:nvCxnSpPr>
        <p:spPr>
          <a:xfrm flipV="1">
            <a:off x="2410920" y="1627920"/>
            <a:ext cx="1081800" cy="793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/>
          <p:nvPr/>
        </p:nvCxnSpPr>
        <p:spPr>
          <a:xfrm>
            <a:off x="2340000" y="2707920"/>
            <a:ext cx="2161080" cy="1080"/>
          </a:xfrm>
          <a:prstGeom prst="straightConnector1">
            <a:avLst/>
          </a:prstGeom>
          <a:ln w="25560">
            <a:solidFill>
              <a:srgbClr val="00ff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1258920" y="227664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example. Descrip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628640"/>
            <a:ext cx="1656000" cy="862200"/>
          </a:xfrm>
          <a:prstGeom prst="wedgeRectCallout">
            <a:avLst>
              <a:gd name="adj1" fmla="val -46546"/>
              <a:gd name="adj2" fmla="val 8499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need to write a letter to the UK emba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730920" y="1052640"/>
            <a:ext cx="1154160" cy="609480"/>
          </a:xfrm>
          <a:prstGeom prst="wedgeRoundRectCallout">
            <a:avLst>
              <a:gd name="adj1" fmla="val -45046"/>
              <a:gd name="adj2" fmla="val 70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know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2781360"/>
            <a:ext cx="1224000" cy="609480"/>
          </a:xfrm>
          <a:prstGeom prst="wedgeRoundRectCallout">
            <a:avLst>
              <a:gd name="adj1" fmla="val -45328"/>
              <a:gd name="adj2" fmla="val 70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use pr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04000" y="4365720"/>
            <a:ext cx="1655640" cy="609480"/>
          </a:xfrm>
          <a:prstGeom prst="wedgeRoundRectCallout">
            <a:avLst>
              <a:gd name="adj1" fmla="val -46546"/>
              <a:gd name="adj2" fmla="val 70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have an official st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92360" y="4437000"/>
            <a:ext cx="1655640" cy="720720"/>
          </a:xfrm>
          <a:prstGeom prst="wedgeRoundRectCallout">
            <a:avLst>
              <a:gd name="adj1" fmla="val -45495"/>
              <a:gd name="adj2" fmla="val -13502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 can only  sign lette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256536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7440" y="35020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724360" y="133992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292428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4575240"/>
            <a:ext cx="914400" cy="9144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86760" y="2270160"/>
            <a:ext cx="14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5040" y="3789360"/>
            <a:ext cx="14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6920" y="5518080"/>
            <a:ext cx="16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cret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79640" y="292572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write a letter mea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, print and certify it w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mp and boss’s sign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ig example. Solutio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write-letter, send-letter, type-letter-in-english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send-letter, certify-letter, print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type-letter-in-english, secretary-1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print-letter, secretary-1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1, type-letter-in-english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certify-letter, stamp-letter, sign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stamp-letter, secretary-1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boss, sign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1, print-letter, secretary-2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2, print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1, stamp-letter, secretary-2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as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2, stamp-letter, secretary-3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perform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cretary-3, stamp-letter]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b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certify-letter, stamp-letter, sign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b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send-letter, certify-letter, print-letter]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combin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[write-letter, send-letter, type-letter-in-english]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ig example. Solution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V="1">
            <a:off x="1187280" y="2565000"/>
            <a:ext cx="576360" cy="35892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2268000" y="2852280"/>
            <a:ext cx="71640" cy="2890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80000" y="1700280"/>
            <a:ext cx="0" cy="3618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532720" y="5661000"/>
            <a:ext cx="0" cy="21600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580000" y="5661000"/>
            <a:ext cx="0" cy="289080"/>
          </a:xfrm>
          <a:prstGeom prst="line">
            <a:avLst/>
          </a:prstGeom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ing up… two view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have different views on the probl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peration in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ulti-agent commun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(strategic gam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alyzing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views might be though as differ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reas of the proposed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mming up… or what we do not have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ter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olution building (iteration by imposing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nstrai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n next solut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“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i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” solution (compromise or equilibrium) and its evalu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he possibility of introducing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w acto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uring the solution buil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optima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ssignment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atisfy all goals of all ag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ch an compromi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(1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yp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Actors and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: an act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ant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 goal to be satisfi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pabilities: an act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satisfy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o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ion: an actor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pas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(or delegate) a goal to another a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(2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al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be decompose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to sub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one possible decomposi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al is satisfied iff all its subgoals are satisfi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mposition can be performed by any 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omposition is actor-indepen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malization (3)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basic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tisf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r delegates) a goal to another 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act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compo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goal into sub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u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t should b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d to satisfy all initial goals of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ors (or to reach an equilibri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’s look 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ich is in A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problem of finding a sequence of primitive actions to achieve some go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need to formalize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 action ha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condi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ff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condition and effect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an be represented as conjunction or disjunction (for precondition only)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edicate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or their neg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ning problem. Predicates</a:t>
            </a:r>
            <a:endParaRPr b="0" lang="en-US" sz="4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’s capabil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satisfy (a – actor, g – go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depend_on (a1 – actor, a2 – acto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or’s initial desi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nts (a – actor, g – go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sible decomposition of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an_be_decomposed (g – goal, g1 – goal, g2 – goal, 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11:40:02Z</dcterms:created>
  <dc:creator>Administrator</dc:creator>
  <dc:description/>
  <dc:language>en-US</dc:language>
  <cp:lastModifiedBy>Admin</cp:lastModifiedBy>
  <dcterms:modified xsi:type="dcterms:W3CDTF">2005-06-08T12:16:47Z</dcterms:modified>
  <cp:revision>32</cp:revision>
  <dc:subject/>
  <dc:title>Design Agents Societies</dc:title>
</cp:coreProperties>
</file>