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46B-C732-4177-9DA1-58CF7EC9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489-6EE6-43EC-8D1D-12BE7004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143-DEC6-45BC-B701-E005FE77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87F-8205-4C69-BE00-99A392A0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97C4-EBDB-4437-AADB-7FABBD20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59B4-0704-42B1-A026-2B286E80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152E-E140-48CD-B1BC-A489D24A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F5A9-F266-45BB-B01A-AB393C02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7D31-7A05-411C-BC90-7CF805E6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E0D6-422D-4BF3-B55D-4D3E579A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94E9-EF4A-4ED8-AB3D-19162290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350-BA5E-4D09-858F-D61B81A1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C224-93DE-45BC-B803-14C31B0A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4292-83D3-495B-B8BB-5542A72D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5BB7-D307-40E7-B266-BA7CC245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5947-8B44-4584-926E-BAC009C9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62CB-CA98-4F02-896F-C25FDEB2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323-00E4-436F-B939-6907E1EB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C05-1C1F-49F4-B9A7-29E5721F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DAE-4A90-4153-9642-75E0AB78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C5A3-C12D-48A2-B7C7-4DBB0EC8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937-7025-40F3-9158-6608FE73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1ECC-31D8-4EC4-80E4-DC7B733E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90A-B94D-4C5B-A66C-E9852626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A7A4-CE86-4E06-9BC5-712AF857479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3AEF-2CD9-4748-83A6-50532949431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Designing Agent Societi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ha Br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D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T, 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yl@dit.unitn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problem. Action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tisf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a – actor, g – go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recondi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_satisfy (a, g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nts (a, g)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e (g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(wants(a,g)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*  done (g – goal) is an additional predicate which means “goal g is satisfied, no one wants it anymo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problem. Action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mpos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– actor, g – goal, g1 – goal, g2 – go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_be_decomposed (g, g1, g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s (a, g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s(a,g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s(a,g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(wants(a,g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n be extended to more than two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problem. Action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1 – actor, g – goal, a1 – ac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_depend_on (a1, a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s (a1, g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s(a2, 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(wants(a1, g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problem. Intuition (1)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57600" y="3635280"/>
            <a:ext cx="28800" cy="19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57600" y="3635280"/>
            <a:ext cx="28800" cy="1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557600" y="3635280"/>
            <a:ext cx="28800" cy="1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16360" y="1844640"/>
            <a:ext cx="3616560" cy="3672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126600" y="342900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s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68800" y="3357720"/>
            <a:ext cx="936360" cy="57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341520" y="3284640"/>
            <a:ext cx="863640" cy="72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800" y="234936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omposes (A, G, G1, G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3080" y="407664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s (A, G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3080" y="458136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s (A, G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1268280"/>
            <a:ext cx="835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paga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the grap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imina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beco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problem. Intuition (2)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3640" y="3789360"/>
            <a:ext cx="2519280" cy="2249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228720" y="429408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s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0560" y="4222800"/>
            <a:ext cx="93672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443640" y="4149720"/>
            <a:ext cx="863640" cy="72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3080" y="49417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e 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2720" y="45100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tisfies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252440"/>
            <a:ext cx="835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paga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the grap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imina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beco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708360" y="1700280"/>
            <a:ext cx="4680000" cy="1542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709440" y="3068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s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17760" y="3068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s (B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51280" y="2997360"/>
            <a:ext cx="936720" cy="57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924360" y="2924280"/>
            <a:ext cx="863640" cy="72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70280" y="220356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es (G, A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. Informal formul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"/>
          <p:cNvSpPr/>
          <p:nvPr/>
        </p:nvSpPr>
        <p:spPr>
          <a:xfrm>
            <a:off x="1065240" y="2133720"/>
            <a:ext cx="914400" cy="9144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3573360"/>
            <a:ext cx="1584360" cy="609840"/>
          </a:xfrm>
          <a:prstGeom prst="wedgeRoundRectCallout">
            <a:avLst>
              <a:gd name="adj1" fmla="val -70939"/>
              <a:gd name="adj2" fmla="val -10468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an buy a ti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95640" y="1484280"/>
            <a:ext cx="2089080" cy="609480"/>
          </a:xfrm>
          <a:prstGeom prst="wedgeRectCallout">
            <a:avLst>
              <a:gd name="adj1" fmla="val -47263"/>
              <a:gd name="adj2" fmla="val 700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ant to go to the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242100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o there me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 a ticke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eimbur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32560" y="3213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40560" y="3213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00920" y="25639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3068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19600" y="43578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ing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365720"/>
            <a:ext cx="1512720" cy="1295280"/>
          </a:xfrm>
          <a:prstGeom prst="wedgeRoundRectCallout">
            <a:avLst>
              <a:gd name="adj1" fmla="val 29435"/>
              <a:gd name="adj2" fmla="val -13553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an ask accounting office for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80000" y="1628640"/>
            <a:ext cx="2665440" cy="609840"/>
          </a:xfrm>
          <a:prstGeom prst="wedgeRoundRectCallout">
            <a:avLst>
              <a:gd name="adj1" fmla="val -5449"/>
              <a:gd name="adj2" fmla="val 17474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help to get the reimburs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. PDDL formul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fin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problem example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(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domai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tropos-domain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(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object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    Professor Accounting_office - t_actor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    Go_to_conference Get_reimbursement Buy_ticket - t_goal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 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(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goa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and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    (done Go_to_conference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) 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(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init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    (can_do Accounting_office Get_reimbursement 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    (can_do Professor Buy_ticket 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    (can_depend_on Professor Accounting_office 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    (wants Professor Go_to_conference 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    (and_subgoal2 Go_to_conference Buy_ticket Get_reimbursement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 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ample. Using the to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4978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ample. Using the to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2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ample. Sol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704000" cy="3633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4581360"/>
            <a:ext cx="3058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mpos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professor,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-to-conferenc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y-ticke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-reimbursement]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professo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y-ticke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5760" y="4005360"/>
            <a:ext cx="216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professo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-reimbursemen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unting-offic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84720" y="4941720"/>
            <a:ext cx="282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accounting-offic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-reimbursemen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 Society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22766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3213000"/>
            <a:ext cx="1440000" cy="792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419640" y="1414440"/>
            <a:ext cx="1008000" cy="1006560"/>
            <a:chOff x="3419640" y="1414440"/>
            <a:chExt cx="1008000" cy="1006560"/>
          </a:xfrm>
        </p:grpSpPr>
        <p:sp>
          <p:nvSpPr>
            <p:cNvPr id="92" name=""/>
            <p:cNvSpPr/>
            <p:nvPr/>
          </p:nvSpPr>
          <p:spPr>
            <a:xfrm>
              <a:off x="3706920" y="1414440"/>
              <a:ext cx="432000" cy="43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9640" y="1917720"/>
              <a:ext cx="1008000" cy="503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356000" y="2492280"/>
            <a:ext cx="1008000" cy="1006560"/>
            <a:chOff x="4356000" y="2492280"/>
            <a:chExt cx="1008000" cy="1006560"/>
          </a:xfrm>
        </p:grpSpPr>
        <p:sp>
          <p:nvSpPr>
            <p:cNvPr id="95" name=""/>
            <p:cNvSpPr/>
            <p:nvPr/>
          </p:nvSpPr>
          <p:spPr>
            <a:xfrm>
              <a:off x="4643280" y="2492280"/>
              <a:ext cx="432000" cy="43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56000" y="2995560"/>
              <a:ext cx="1008000" cy="503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284720" y="3933720"/>
            <a:ext cx="1008000" cy="1006560"/>
            <a:chOff x="4284720" y="3933720"/>
            <a:chExt cx="1008000" cy="1006560"/>
          </a:xfrm>
        </p:grpSpPr>
        <p:sp>
          <p:nvSpPr>
            <p:cNvPr id="98" name=""/>
            <p:cNvSpPr/>
            <p:nvPr/>
          </p:nvSpPr>
          <p:spPr>
            <a:xfrm>
              <a:off x="4572000" y="3933720"/>
              <a:ext cx="432000" cy="43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84720" y="4437000"/>
              <a:ext cx="1008000" cy="503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987640" y="4727520"/>
            <a:ext cx="1008000" cy="1006560"/>
            <a:chOff x="2987640" y="4727520"/>
            <a:chExt cx="1008000" cy="1006560"/>
          </a:xfrm>
        </p:grpSpPr>
        <p:sp>
          <p:nvSpPr>
            <p:cNvPr id="101" name=""/>
            <p:cNvSpPr/>
            <p:nvPr/>
          </p:nvSpPr>
          <p:spPr>
            <a:xfrm>
              <a:off x="3274920" y="4727520"/>
              <a:ext cx="432000" cy="43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87640" y="5230800"/>
              <a:ext cx="1008000" cy="503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724360" y="1125360"/>
            <a:ext cx="29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collaboration (throug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g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22920" y="191628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mpetitive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2339640" y="2924280"/>
            <a:ext cx="2088360" cy="101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/>
          <p:nvPr/>
        </p:nvCxnSpPr>
        <p:spPr>
          <a:xfrm>
            <a:off x="2340000" y="2707920"/>
            <a:ext cx="21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7" name=""/>
          <p:cNvCxnSpPr/>
          <p:nvPr/>
        </p:nvCxnSpPr>
        <p:spPr>
          <a:xfrm flipV="1">
            <a:off x="2410920" y="1627920"/>
            <a:ext cx="108180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8" name=""/>
          <p:cNvCxnSpPr>
            <a:stCxn id="90" idx="2"/>
          </p:cNvCxnSpPr>
          <p:nvPr/>
        </p:nvCxnSpPr>
        <p:spPr>
          <a:xfrm>
            <a:off x="1763280" y="40050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flipH="1" flipV="1">
            <a:off x="2267640" y="5083920"/>
            <a:ext cx="5756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1476360" y="4508640"/>
            <a:ext cx="698400" cy="64764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3357720"/>
            <a:ext cx="309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ty member’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use others capabilities to achieve personal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/>
          <p:nvPr/>
        </p:nvCxnSpPr>
        <p:spPr>
          <a:xfrm flipV="1">
            <a:off x="2410920" y="1627920"/>
            <a:ext cx="1081800" cy="793080"/>
          </a:xfrm>
          <a:prstGeom prst="straightConnector1">
            <a:avLst/>
          </a:prstGeom>
          <a:ln w="255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>
            <a:off x="2340000" y="2707920"/>
            <a:ext cx="2161080" cy="1080"/>
          </a:xfrm>
          <a:prstGeom prst="straightConnector1">
            <a:avLst/>
          </a:prstGeom>
          <a:ln w="255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1258920" y="2276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g example. Descrip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628640"/>
            <a:ext cx="1656000" cy="862200"/>
          </a:xfrm>
          <a:prstGeom prst="wedgeRectCallout">
            <a:avLst>
              <a:gd name="adj1" fmla="val -46546"/>
              <a:gd name="adj2" fmla="val 849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need to write a letter to the UK emba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30920" y="1052640"/>
            <a:ext cx="1154160" cy="609480"/>
          </a:xfrm>
          <a:prstGeom prst="wedgeRoundRectCallout">
            <a:avLst>
              <a:gd name="adj1" fmla="val -45046"/>
              <a:gd name="adj2" fmla="val 700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know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04000" y="2781360"/>
            <a:ext cx="1224000" cy="609480"/>
          </a:xfrm>
          <a:prstGeom prst="wedgeRoundRectCallout">
            <a:avLst>
              <a:gd name="adj1" fmla="val -45328"/>
              <a:gd name="adj2" fmla="val 700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an use 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04000" y="4365720"/>
            <a:ext cx="1655640" cy="609480"/>
          </a:xfrm>
          <a:prstGeom prst="wedgeRoundRectCallout">
            <a:avLst>
              <a:gd name="adj1" fmla="val -46546"/>
              <a:gd name="adj2" fmla="val 700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have an official 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92360" y="4437000"/>
            <a:ext cx="1655640" cy="720720"/>
          </a:xfrm>
          <a:prstGeom prst="wedgeRoundRectCallout">
            <a:avLst>
              <a:gd name="adj1" fmla="val -45495"/>
              <a:gd name="adj2" fmla="val -13502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an only  sign lette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2565360"/>
            <a:ext cx="914400" cy="9144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7440" y="3502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24360" y="1339920"/>
            <a:ext cx="914400" cy="9144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24360" y="2924280"/>
            <a:ext cx="914400" cy="9144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4575240"/>
            <a:ext cx="914400" cy="9144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86760" y="2270160"/>
            <a:ext cx="14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r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95040" y="3789360"/>
            <a:ext cx="14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r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6920" y="55180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r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9640" y="292572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rite a letter me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, print and certify i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mp and boss’s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g example. Solu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compos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boss, write-letter, send-letter, type-letter-in-english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compos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boss, send-letter, certify-letter, print-letter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boss, type-letter-in-english, secretary-1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boss, print-letter, secretary-1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erform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secretary-1, type-letter-in-english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compos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boss, certify-letter, stamp-letter, sign-letter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boss, stamp-letter, secretary-1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erform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boss, sign-letter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secretary-1, print-letter, secretary-2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erform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secretary-2, print-letter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secretary-1, stamp-letter, secretary-2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secretary-2, stamp-letter, secretary-3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erform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secretary-3, stamp-letter]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mbin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certify-letter, stamp-letter, sign-letter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mbin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send-letter, certify-letter, print-letter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mbin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write-letter, send-letter, type-letter-in-english]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g example. Solut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V="1">
            <a:off x="1187280" y="2565000"/>
            <a:ext cx="576360" cy="35892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268000" y="2852280"/>
            <a:ext cx="71640" cy="2890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0" y="1700280"/>
            <a:ext cx="0" cy="36180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32720" y="5661000"/>
            <a:ext cx="0" cy="21600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80000" y="5661000"/>
            <a:ext cx="0" cy="2890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ing up… two view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have different views on the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peration 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ulti-agent commun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strategic ga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yzing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views might be though as differ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as of the proposed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ing up… or what we do not hav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ne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ter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lution building (iteration by imposing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strai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n next solu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need 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i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 solution (compromise or equilibrium) and its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need the possibility of introducing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uring the solution buil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optim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ssignmen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isfy all goals of all ag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 an compromi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ization (1)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yp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ctors and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s: an act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a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goal to be satisf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bilities: an act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satisf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o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: an act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pa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or delegate) a goal to another a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ization (2)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be decompos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to sub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one possible decom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 is satisfied iff all its subgoals are satisfi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omposition can be performed by any a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omposition is actor-indepen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ization (3)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as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isf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delegates) a goal to another 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ompo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goal into sub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should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d to satisfy all initial goals of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rs (or to reach an equilibri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look 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ch is in 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oblem of finding a sequence of primitive actions to achieve some go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problem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need to formaliz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ction ha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condi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condition and effec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represented as conjunction or disjunction (for precondition only)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dica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their ne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problem. Predicat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or’s capab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_satisfy (a – actor, g – go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_depend_on (a1 – actor, a2 – ac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or’s initial desi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nts (a – actor, g – go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sible decomposition of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_be_decomposed (g – goal, g1 – goal, g2 – goal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1:40:02Z</dcterms:created>
  <dc:creator>Administrator</dc:creator>
  <dc:description/>
  <dc:language>en-US</dc:language>
  <cp:lastModifiedBy>Admin</cp:lastModifiedBy>
  <dcterms:modified xsi:type="dcterms:W3CDTF">2005-06-08T12:16:47Z</dcterms:modified>
  <cp:revision>32</cp:revision>
  <dc:subject/>
  <dc:title>Design Agents Societies</dc:title>
</cp:coreProperties>
</file>